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38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808280" y="4160880"/>
            <a:ext cx="16272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のは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7880" y="209520"/>
            <a:ext cx="5791320" cy="1670040"/>
          </a:xfrm>
          <a:prstGeom prst="roundRect">
            <a:avLst>
              <a:gd name="adj" fmla="val 1074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99160" y="2901960"/>
            <a:ext cx="2278080" cy="6440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756560" y="3448080"/>
            <a:ext cx="2130480" cy="5627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35360" y="22320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09480" y="241632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327320" y="2473200"/>
            <a:ext cx="3854160" cy="4843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8880" y="530280"/>
            <a:ext cx="519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ギターを ひく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の</a:t>
            </a:r>
            <a:r>
              <a:rPr b="0" lang="ja-JP" sz="4000" spc="-1" strike="noStrike">
                <a:solidFill>
                  <a:srgbClr val="800000"/>
                </a:solidFill>
                <a:latin typeface="YOzFontP04"/>
                <a:ea typeface="YOzFontP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じょうず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2040" y="365040"/>
            <a:ext cx="953784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682560"/>
            <a:ext cx="903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P04"/>
                <a:ea typeface="YOzFontP04"/>
              </a:rPr>
              <a:t>でんきを けす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の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P04"/>
                <a:ea typeface="YOzFontP04"/>
              </a:rPr>
              <a:t>を</a:t>
            </a:r>
            <a:r>
              <a:rPr b="0" lang="fr-FR" sz="4400" spc="-1" strike="noStrike">
                <a:solidFill>
                  <a:srgbClr val="000000"/>
                </a:solidFill>
                <a:latin typeface="YOzFontP04"/>
                <a:ea typeface="YOzFontP04"/>
              </a:rPr>
              <a:t> わすれました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6240" y="1600200"/>
            <a:ext cx="4062240" cy="2889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85880" y="4460760"/>
            <a:ext cx="7494840" cy="3184560"/>
          </a:xfrm>
          <a:custGeom>
            <a:avLst/>
            <a:gdLst/>
            <a:ahLst/>
            <a:rect l="l" t="t" r="r" b="b"/>
            <a:pathLst>
              <a:path w="20817" h="8848">
                <a:moveTo>
                  <a:pt x="8109" y="8812"/>
                </a:moveTo>
                <a:lnTo>
                  <a:pt x="0" y="0"/>
                </a:lnTo>
                <a:lnTo>
                  <a:pt x="3733" y="2"/>
                </a:lnTo>
                <a:lnTo>
                  <a:pt x="20816" y="8847"/>
                </a:lnTo>
                <a:lnTo>
                  <a:pt x="8109" y="8812"/>
                </a:ln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716880" y="2706840"/>
            <a:ext cx="1911240" cy="49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025720" y="2471760"/>
            <a:ext cx="2162160" cy="6496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2040" y="365040"/>
            <a:ext cx="953784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5" name=""/>
          <p:cNvSpPr/>
          <p:nvPr/>
        </p:nvSpPr>
        <p:spPr>
          <a:xfrm>
            <a:off x="5307120" y="1566720"/>
            <a:ext cx="5421240" cy="3992760"/>
          </a:xfrm>
          <a:prstGeom prst="cloudCallout">
            <a:avLst>
              <a:gd name="adj1" fmla="val -81226"/>
              <a:gd name="adj2" fmla="val -1362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94440" y="1895400"/>
            <a:ext cx="3670200" cy="3122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93640" y="504720"/>
            <a:ext cx="91868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P04"/>
                <a:ea typeface="YOzFontP04"/>
              </a:rPr>
              <a:t>さいふを もってくる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の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P04"/>
                <a:ea typeface="YOzFontP04"/>
              </a:rPr>
              <a:t>を</a:t>
            </a:r>
            <a:r>
              <a:rPr b="0" lang="fr-FR" sz="4400" spc="-1" strike="noStrike">
                <a:solidFill>
                  <a:srgbClr val="000000"/>
                </a:solidFill>
                <a:latin typeface="YOzFontP04"/>
                <a:ea typeface="YOzFontP04"/>
              </a:rPr>
              <a:t> わすれました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02400" y="2425680"/>
            <a:ext cx="2229120" cy="637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9320" y="263520"/>
            <a:ext cx="2040120" cy="3147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917640" y="3386160"/>
            <a:ext cx="2411280" cy="7307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25640" y="262080"/>
            <a:ext cx="4467240" cy="1722240"/>
          </a:xfrm>
          <a:custGeom>
            <a:avLst/>
            <a:gdLst/>
            <a:ahLst/>
            <a:rect l="l" t="t" r="r" b="b"/>
            <a:pathLst>
              <a:path w="12407" h="4786">
                <a:moveTo>
                  <a:pt x="542" y="4785"/>
                </a:moveTo>
                <a:lnTo>
                  <a:pt x="330" y="4739"/>
                </a:lnTo>
                <a:lnTo>
                  <a:pt x="158" y="4616"/>
                </a:lnTo>
                <a:lnTo>
                  <a:pt x="43" y="4432"/>
                </a:lnTo>
                <a:lnTo>
                  <a:pt x="0" y="4208"/>
                </a:lnTo>
                <a:lnTo>
                  <a:pt x="0" y="577"/>
                </a:lnTo>
                <a:lnTo>
                  <a:pt x="43" y="352"/>
                </a:lnTo>
                <a:lnTo>
                  <a:pt x="158" y="169"/>
                </a:lnTo>
                <a:lnTo>
                  <a:pt x="330" y="45"/>
                </a:lnTo>
                <a:lnTo>
                  <a:pt x="542" y="0"/>
                </a:lnTo>
                <a:lnTo>
                  <a:pt x="11864" y="0"/>
                </a:lnTo>
                <a:lnTo>
                  <a:pt x="12073" y="45"/>
                </a:lnTo>
                <a:lnTo>
                  <a:pt x="12247" y="169"/>
                </a:lnTo>
                <a:lnTo>
                  <a:pt x="12362" y="352"/>
                </a:lnTo>
                <a:lnTo>
                  <a:pt x="12406" y="577"/>
                </a:lnTo>
                <a:lnTo>
                  <a:pt x="12406" y="4208"/>
                </a:lnTo>
                <a:lnTo>
                  <a:pt x="12362" y="4432"/>
                </a:lnTo>
                <a:lnTo>
                  <a:pt x="12247" y="4616"/>
                </a:lnTo>
                <a:lnTo>
                  <a:pt x="12073" y="4739"/>
                </a:lnTo>
                <a:lnTo>
                  <a:pt x="11864" y="4785"/>
                </a:lnTo>
                <a:lnTo>
                  <a:pt x="542" y="4785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3" name=""/>
          <p:cNvSpPr/>
          <p:nvPr/>
        </p:nvSpPr>
        <p:spPr>
          <a:xfrm>
            <a:off x="2825640" y="262080"/>
            <a:ext cx="446724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P04"/>
                <a:ea typeface="YOzFontP04"/>
              </a:rPr>
              <a:t>しゃちょうと みゆきさん</a:t>
            </a:r>
            <a:r>
              <a:rPr b="0" lang="ja-JP" sz="2800" spc="-1" strike="noStrike">
                <a:solidFill>
                  <a:srgbClr val="800000"/>
                </a:solidFill>
                <a:latin typeface="YOzFontP04"/>
                <a:ea typeface="YOzFontP04"/>
              </a:rPr>
              <a:t>は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P04"/>
                <a:ea typeface="YOzFontP04"/>
              </a:rPr>
              <a:t>けっこんします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P04"/>
                <a:ea typeface="YOzFontP04"/>
              </a:rPr>
              <a:t>しっていますか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4" name=""/>
          <p:cNvSpPr/>
          <p:nvPr/>
        </p:nvSpPr>
        <p:spPr>
          <a:xfrm>
            <a:off x="4422600" y="2127240"/>
            <a:ext cx="1800" cy="2752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5" name=""/>
          <p:cNvSpPr/>
          <p:nvPr/>
        </p:nvSpPr>
        <p:spPr>
          <a:xfrm>
            <a:off x="101520" y="5054760"/>
            <a:ext cx="8453520" cy="1515960"/>
          </a:xfrm>
          <a:prstGeom prst="wedgeRoundRectCallout">
            <a:avLst>
              <a:gd name="adj1" fmla="val -21004"/>
              <a:gd name="adj2" fmla="val -8828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88240" y="233280"/>
            <a:ext cx="1184040" cy="5589720"/>
            <a:chOff x="6888240" y="233280"/>
            <a:chExt cx="1184040" cy="5589720"/>
          </a:xfrm>
        </p:grpSpPr>
        <p:sp>
          <p:nvSpPr>
            <p:cNvPr id="117" name=""/>
            <p:cNvSpPr/>
            <p:nvPr/>
          </p:nvSpPr>
          <p:spPr>
            <a:xfrm>
              <a:off x="6888240" y="233280"/>
              <a:ext cx="701640" cy="701640"/>
            </a:xfrm>
            <a:prstGeom prst="ellipse">
              <a:avLst/>
            </a:prstGeom>
            <a:noFill/>
            <a:ln w="72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91440" y="965160"/>
              <a:ext cx="199800" cy="4137120"/>
            </a:xfrm>
            <a:prstGeom prst="line">
              <a:avLst/>
            </a:prstGeom>
            <a:ln w="7200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97640" y="5148360"/>
              <a:ext cx="674640" cy="674640"/>
            </a:xfrm>
            <a:prstGeom prst="ellipse">
              <a:avLst/>
            </a:prstGeom>
            <a:noFill/>
            <a:ln w="720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53880" y="5497560"/>
            <a:ext cx="50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>
            <a:off x="857160" y="5281560"/>
            <a:ext cx="787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しゃちょうと みゆきさん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けっこんする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の</a:t>
            </a:r>
            <a:r>
              <a:rPr b="0" lang="ja-JP" sz="4000" spc="-1" strike="noStrike">
                <a:solidFill>
                  <a:srgbClr val="800000"/>
                </a:solidFill>
                <a:latin typeface="YOzFontP04"/>
                <a:ea typeface="YOzFontP04"/>
              </a:rPr>
              <a:t>を</a:t>
            </a:r>
            <a:r>
              <a:rPr b="0" lang="fr-FR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 しっていますか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02400" y="2425680"/>
            <a:ext cx="2229120" cy="6372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311640" y="4575240"/>
            <a:ext cx="5016240" cy="1415880"/>
          </a:xfrm>
          <a:prstGeom prst="wedgeRoundRectCallout">
            <a:avLst>
              <a:gd name="adj1" fmla="val 37898"/>
              <a:gd name="adj2" fmla="val -9639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4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79320" y="263520"/>
            <a:ext cx="2040120" cy="314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06920" y="487836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はい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7" name=""/>
          <p:cNvSpPr/>
          <p:nvPr/>
        </p:nvSpPr>
        <p:spPr>
          <a:xfrm>
            <a:off x="5049720" y="4894200"/>
            <a:ext cx="355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しってい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220760" y="3398760"/>
            <a:ext cx="2411280" cy="730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9320" y="263520"/>
            <a:ext cx="2040120" cy="3147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68400" y="3411360"/>
            <a:ext cx="2411280" cy="7307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502400" y="2425680"/>
            <a:ext cx="2229120" cy="6372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11640" y="4575240"/>
            <a:ext cx="6091200" cy="1415880"/>
          </a:xfrm>
          <a:prstGeom prst="wedgeRoundRectCallout">
            <a:avLst>
              <a:gd name="adj1" fmla="val 22407"/>
              <a:gd name="adj2" fmla="val -9639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4" name=""/>
          <p:cNvSpPr/>
          <p:nvPr/>
        </p:nvSpPr>
        <p:spPr>
          <a:xfrm>
            <a:off x="3403440" y="4865760"/>
            <a:ext cx="2032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いいえ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5" name=""/>
          <p:cNvSpPr/>
          <p:nvPr/>
        </p:nvSpPr>
        <p:spPr>
          <a:xfrm>
            <a:off x="5049720" y="4894200"/>
            <a:ext cx="457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しりませんで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81360" y="969840"/>
            <a:ext cx="3854520" cy="4843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04640" y="4367160"/>
            <a:ext cx="9160200" cy="11257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ギターを ひく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こと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ができ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8" name=""/>
          <p:cNvSpPr/>
          <p:nvPr/>
        </p:nvSpPr>
        <p:spPr>
          <a:xfrm>
            <a:off x="404640" y="5854680"/>
            <a:ext cx="9160200" cy="11257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ギターを ひく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の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ができ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87160" y="5702400"/>
            <a:ext cx="8869320" cy="1509480"/>
            <a:chOff x="587160" y="5702400"/>
            <a:chExt cx="8869320" cy="1509480"/>
          </a:xfrm>
        </p:grpSpPr>
        <p:sp>
          <p:nvSpPr>
            <p:cNvPr id="140" name=""/>
            <p:cNvSpPr/>
            <p:nvPr/>
          </p:nvSpPr>
          <p:spPr>
            <a:xfrm>
              <a:off x="590400" y="5702400"/>
              <a:ext cx="8862840" cy="15094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7160" y="5702400"/>
              <a:ext cx="8869320" cy="15094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000920" y="1643040"/>
            <a:ext cx="203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でき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943360"/>
            <a:ext cx="2152800" cy="6562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087640" y="4119480"/>
            <a:ext cx="7842240" cy="11257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パンダを みた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こと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があり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5" name=""/>
          <p:cNvSpPr/>
          <p:nvPr/>
        </p:nvSpPr>
        <p:spPr>
          <a:xfrm>
            <a:off x="2049480" y="5764320"/>
            <a:ext cx="7842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パンダを みた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の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があり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022120" y="5702400"/>
            <a:ext cx="7434360" cy="1509480"/>
            <a:chOff x="2022120" y="5702400"/>
            <a:chExt cx="7434360" cy="1509480"/>
          </a:xfrm>
        </p:grpSpPr>
        <p:sp>
          <p:nvSpPr>
            <p:cNvPr id="147" name=""/>
            <p:cNvSpPr/>
            <p:nvPr/>
          </p:nvSpPr>
          <p:spPr>
            <a:xfrm>
              <a:off x="2025000" y="5702400"/>
              <a:ext cx="7428240" cy="15094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022120" y="5702400"/>
              <a:ext cx="7434360" cy="15094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162080" y="3411360"/>
            <a:ext cx="14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0" name=""/>
          <p:cNvSpPr/>
          <p:nvPr/>
        </p:nvSpPr>
        <p:spPr>
          <a:xfrm>
            <a:off x="909720" y="4043520"/>
            <a:ext cx="252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844640" y="301680"/>
            <a:ext cx="5853240" cy="4332240"/>
            <a:chOff x="1844640" y="301680"/>
            <a:chExt cx="5853240" cy="4332240"/>
          </a:xfrm>
        </p:grpSpPr>
        <p:sp>
          <p:nvSpPr>
            <p:cNvPr id="152" name=""/>
            <p:cNvSpPr/>
            <p:nvPr/>
          </p:nvSpPr>
          <p:spPr>
            <a:xfrm>
              <a:off x="1844640" y="301680"/>
              <a:ext cx="5853240" cy="4332240"/>
            </a:xfrm>
            <a:prstGeom prst="roundRect">
              <a:avLst>
                <a:gd name="adj" fmla="val 4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3267000" y="396720"/>
              <a:ext cx="3440160" cy="414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210960" y="4343400"/>
            <a:ext cx="927756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わたしの しゅみは テニスを する</a:t>
            </a:r>
            <a:r>
              <a:rPr b="0" lang="ja-JP" sz="3600" spc="-1" strike="noStrike">
                <a:solidFill>
                  <a:srgbClr val="ff0000"/>
                </a:solidFill>
                <a:latin typeface="YOzFontP04"/>
                <a:ea typeface="YOzFontP04"/>
              </a:rPr>
              <a:t>こと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で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5" name=""/>
          <p:cNvSpPr/>
          <p:nvPr/>
        </p:nvSpPr>
        <p:spPr>
          <a:xfrm>
            <a:off x="325440" y="5854680"/>
            <a:ext cx="9237600" cy="11257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わたしの しゅみは テニスを みる</a:t>
            </a:r>
            <a:r>
              <a:rPr b="0" lang="ja-JP" sz="3600" spc="-1" strike="noStrike">
                <a:solidFill>
                  <a:srgbClr val="ff0000"/>
                </a:solidFill>
                <a:latin typeface="YOzFontP04"/>
                <a:ea typeface="YOzFontP04"/>
              </a:rPr>
              <a:t>の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で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87160" y="5702400"/>
            <a:ext cx="8869320" cy="1509480"/>
            <a:chOff x="587160" y="5702400"/>
            <a:chExt cx="8869320" cy="1509480"/>
          </a:xfrm>
        </p:grpSpPr>
        <p:sp>
          <p:nvSpPr>
            <p:cNvPr id="157" name=""/>
            <p:cNvSpPr/>
            <p:nvPr/>
          </p:nvSpPr>
          <p:spPr>
            <a:xfrm>
              <a:off x="590400" y="5702400"/>
              <a:ext cx="8862840" cy="15094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87160" y="5702400"/>
              <a:ext cx="8869320" cy="15094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147760" y="695160"/>
            <a:ext cx="2186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わたしの しゅみ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42000" y="2678040"/>
            <a:ext cx="3448080" cy="6600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50880" y="496800"/>
            <a:ext cx="2049480" cy="1494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78080" y="1822320"/>
            <a:ext cx="5315040" cy="13525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3" name=""/>
          <p:cNvSpPr/>
          <p:nvPr/>
        </p:nvSpPr>
        <p:spPr>
          <a:xfrm>
            <a:off x="376200" y="4095720"/>
            <a:ext cx="9277560" cy="11257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とりが とんでいる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こと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が みえ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390600" y="5908680"/>
            <a:ext cx="923760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とりが とんでいる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の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が みえ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82400" y="3929040"/>
            <a:ext cx="8869320" cy="1509840"/>
            <a:chOff x="482400" y="3929040"/>
            <a:chExt cx="8869320" cy="1509840"/>
          </a:xfrm>
        </p:grpSpPr>
        <p:sp>
          <p:nvSpPr>
            <p:cNvPr id="166" name=""/>
            <p:cNvSpPr/>
            <p:nvPr/>
          </p:nvSpPr>
          <p:spPr>
            <a:xfrm>
              <a:off x="485640" y="3929040"/>
              <a:ext cx="8862840" cy="15098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82400" y="3929040"/>
              <a:ext cx="8869320" cy="15098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2440" y="952560"/>
            <a:ext cx="9537840" cy="12002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ごをはなし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" name=""/>
          <p:cNvSpPr/>
          <p:nvPr/>
        </p:nvSpPr>
        <p:spPr>
          <a:xfrm>
            <a:off x="314280" y="3962520"/>
            <a:ext cx="9537840" cy="11998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" name=""/>
          <p:cNvSpPr/>
          <p:nvPr/>
        </p:nvSpPr>
        <p:spPr>
          <a:xfrm>
            <a:off x="4840200" y="2309760"/>
            <a:ext cx="1800" cy="14353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" name=""/>
          <p:cNvSpPr/>
          <p:nvPr/>
        </p:nvSpPr>
        <p:spPr>
          <a:xfrm>
            <a:off x="365040" y="5403960"/>
            <a:ext cx="9537840" cy="11998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ごをはなす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の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" name=""/>
          <p:cNvSpPr/>
          <p:nvPr/>
        </p:nvSpPr>
        <p:spPr>
          <a:xfrm>
            <a:off x="871560" y="4321080"/>
            <a:ext cx="252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" name=""/>
          <p:cNvSpPr/>
          <p:nvPr/>
        </p:nvSpPr>
        <p:spPr>
          <a:xfrm>
            <a:off x="1049400" y="4094280"/>
            <a:ext cx="84279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ごをはなす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こと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-1020960" y="71280"/>
            <a:ext cx="11812320" cy="7410600"/>
            <a:chOff x="-1020960" y="71280"/>
            <a:chExt cx="11812320" cy="7410600"/>
          </a:xfrm>
        </p:grpSpPr>
        <p:sp>
          <p:nvSpPr>
            <p:cNvPr id="169" name=""/>
            <p:cNvSpPr/>
            <p:nvPr/>
          </p:nvSpPr>
          <p:spPr>
            <a:xfrm>
              <a:off x="8420400" y="71280"/>
              <a:ext cx="66240" cy="515952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89880" y="5276880"/>
              <a:ext cx="2301480" cy="220500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-1020960" y="5330880"/>
              <a:ext cx="9566280" cy="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2733840"/>
            <a:ext cx="7854840" cy="3620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7570800" y="1397160"/>
            <a:ext cx="2309760" cy="6825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39720" y="3051000"/>
            <a:ext cx="920880" cy="1901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63560" y="2268360"/>
            <a:ext cx="6015240" cy="2826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803840" y="552600"/>
            <a:ext cx="4832280" cy="1117440"/>
          </a:xfrm>
          <a:prstGeom prst="roundRect">
            <a:avLst>
              <a:gd name="adj" fmla="val 13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ひとが はなしてい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7" name=""/>
          <p:cNvSpPr/>
          <p:nvPr/>
        </p:nvSpPr>
        <p:spPr>
          <a:xfrm>
            <a:off x="326880" y="4246560"/>
            <a:ext cx="9277560" cy="11257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人が はなしている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こと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が きこえ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8" name=""/>
          <p:cNvSpPr/>
          <p:nvPr/>
        </p:nvSpPr>
        <p:spPr>
          <a:xfrm>
            <a:off x="339840" y="6060960"/>
            <a:ext cx="9237600" cy="11257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人が はなしている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の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が きこえ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31640" y="4081320"/>
            <a:ext cx="8869680" cy="1509840"/>
            <a:chOff x="431640" y="4081320"/>
            <a:chExt cx="8869680" cy="1509840"/>
          </a:xfrm>
        </p:grpSpPr>
        <p:sp>
          <p:nvSpPr>
            <p:cNvPr id="180" name=""/>
            <p:cNvSpPr/>
            <p:nvPr/>
          </p:nvSpPr>
          <p:spPr>
            <a:xfrm>
              <a:off x="434520" y="4081320"/>
              <a:ext cx="8863200" cy="15098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31640" y="4081320"/>
              <a:ext cx="8869680" cy="15098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5120" y="1959120"/>
            <a:ext cx="2228760" cy="6372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90760" y="6032520"/>
            <a:ext cx="4951440" cy="1527120"/>
          </a:xfrm>
          <a:prstGeom prst="roundRect">
            <a:avLst>
              <a:gd name="adj" fmla="val 290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いいえ、きょうとで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うまれま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4" name=""/>
          <p:cNvSpPr/>
          <p:nvPr/>
        </p:nvSpPr>
        <p:spPr>
          <a:xfrm>
            <a:off x="4506840" y="6151680"/>
            <a:ext cx="1913040" cy="7300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083360" y="2527200"/>
            <a:ext cx="2411640" cy="7307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452600" y="1023840"/>
            <a:ext cx="6280200" cy="1174680"/>
          </a:xfrm>
          <a:prstGeom prst="wedgeRoundRectCallout">
            <a:avLst>
              <a:gd name="adj1" fmla="val -44773"/>
              <a:gd name="adj2" fmla="val 11450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きょうこさんは とうきょうで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うまれたんですよね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7" name=""/>
          <p:cNvSpPr/>
          <p:nvPr/>
        </p:nvSpPr>
        <p:spPr>
          <a:xfrm>
            <a:off x="2641680" y="4346640"/>
            <a:ext cx="5281560" cy="1490760"/>
          </a:xfrm>
          <a:prstGeom prst="wedgeRoundRectCallout">
            <a:avLst>
              <a:gd name="adj1" fmla="val 53097"/>
              <a:gd name="adj2" fmla="val -8386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2894040" y="4675320"/>
            <a:ext cx="507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いいえ、うまれた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の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きょうと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37960" y="457200"/>
            <a:ext cx="9342720" cy="1201680"/>
          </a:xfrm>
          <a:prstGeom prst="roundRect">
            <a:avLst>
              <a:gd name="adj" fmla="val 33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は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スペインへ いきた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イタリアじゃありません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)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0" name=""/>
          <p:cNvSpPr/>
          <p:nvPr/>
        </p:nvSpPr>
        <p:spPr>
          <a:xfrm>
            <a:off x="339840" y="3627360"/>
            <a:ext cx="9342360" cy="1201680"/>
          </a:xfrm>
          <a:prstGeom prst="roundRect">
            <a:avLst>
              <a:gd name="adj" fmla="val 33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が 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きたい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P04"/>
              </a:rPr>
              <a:t>の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スペイン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082960" y="441360"/>
            <a:ext cx="2495520" cy="3884400"/>
            <a:chOff x="2082960" y="441360"/>
            <a:chExt cx="2495520" cy="3884400"/>
          </a:xfrm>
        </p:grpSpPr>
        <p:sp>
          <p:nvSpPr>
            <p:cNvPr id="192" name=""/>
            <p:cNvSpPr/>
            <p:nvPr/>
          </p:nvSpPr>
          <p:spPr>
            <a:xfrm>
              <a:off x="2082960" y="441360"/>
              <a:ext cx="769680" cy="754200"/>
            </a:xfrm>
            <a:prstGeom prst="ellipse">
              <a:avLst/>
            </a:prstGeom>
            <a:noFill/>
            <a:ln w="72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24280" y="3571920"/>
              <a:ext cx="754200" cy="753840"/>
            </a:xfrm>
            <a:prstGeom prst="ellipse">
              <a:avLst/>
            </a:prstGeom>
            <a:noFill/>
            <a:ln w="72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645080" y="1762200"/>
            <a:ext cx="1440" cy="17622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74680" y="457200"/>
            <a:ext cx="9342360" cy="1201680"/>
          </a:xfrm>
          <a:prstGeom prst="roundRect">
            <a:avLst>
              <a:gd name="adj" fmla="val 33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は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P04"/>
              </a:rPr>
              <a:t>きょう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さんが すき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なつみさんじゃありません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)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6" name=""/>
          <p:cNvSpPr/>
          <p:nvPr/>
        </p:nvSpPr>
        <p:spPr>
          <a:xfrm>
            <a:off x="339840" y="3627360"/>
            <a:ext cx="9342360" cy="1201680"/>
          </a:xfrm>
          <a:prstGeom prst="roundRect">
            <a:avLst>
              <a:gd name="adj" fmla="val 33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が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すき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P04"/>
              </a:rPr>
              <a:t>な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P04"/>
              </a:rPr>
              <a:t>の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きょうこさん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154240" y="430200"/>
            <a:ext cx="2676600" cy="3884760"/>
            <a:chOff x="2154240" y="430200"/>
            <a:chExt cx="2676600" cy="3884760"/>
          </a:xfrm>
        </p:grpSpPr>
        <p:sp>
          <p:nvSpPr>
            <p:cNvPr id="198" name=""/>
            <p:cNvSpPr/>
            <p:nvPr/>
          </p:nvSpPr>
          <p:spPr>
            <a:xfrm>
              <a:off x="2154240" y="430200"/>
              <a:ext cx="754200" cy="754200"/>
            </a:xfrm>
            <a:prstGeom prst="ellipse">
              <a:avLst/>
            </a:prstGeom>
            <a:noFill/>
            <a:ln w="72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76640" y="3560760"/>
              <a:ext cx="754200" cy="754200"/>
            </a:xfrm>
            <a:prstGeom prst="ellipse">
              <a:avLst/>
            </a:prstGeom>
            <a:noFill/>
            <a:ln w="72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645080" y="1762200"/>
            <a:ext cx="1440" cy="17622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99880" y="430200"/>
            <a:ext cx="9342720" cy="1201680"/>
          </a:xfrm>
          <a:prstGeom prst="roundRect">
            <a:avLst>
              <a:gd name="adj" fmla="val 33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が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 いきたい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P04"/>
              </a:rPr>
              <a:t>の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スペイン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2" name=""/>
          <p:cNvSpPr/>
          <p:nvPr/>
        </p:nvSpPr>
        <p:spPr>
          <a:xfrm>
            <a:off x="339840" y="3562200"/>
            <a:ext cx="9342360" cy="1202040"/>
          </a:xfrm>
          <a:prstGeom prst="roundRect">
            <a:avLst>
              <a:gd name="adj" fmla="val 33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が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 すき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P04"/>
              </a:rPr>
              <a:t>な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P04"/>
              </a:rPr>
              <a:t>の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きょうこさん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3" name=""/>
          <p:cNvSpPr/>
          <p:nvPr/>
        </p:nvSpPr>
        <p:spPr>
          <a:xfrm>
            <a:off x="326880" y="1944720"/>
            <a:ext cx="9342720" cy="1201680"/>
          </a:xfrm>
          <a:prstGeom prst="roundRect">
            <a:avLst>
              <a:gd name="adj" fmla="val 33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が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 いきたい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P04"/>
              </a:rPr>
              <a:t>こと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スペイン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4" name=""/>
          <p:cNvSpPr/>
          <p:nvPr/>
        </p:nvSpPr>
        <p:spPr>
          <a:xfrm>
            <a:off x="287280" y="5219640"/>
            <a:ext cx="9342360" cy="1201680"/>
          </a:xfrm>
          <a:prstGeom prst="roundRect">
            <a:avLst>
              <a:gd name="adj" fmla="val 33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が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 すき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P04"/>
              </a:rPr>
              <a:t>な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P04"/>
              </a:rPr>
              <a:t>こと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きょうこさん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26760" y="1827360"/>
            <a:ext cx="8869320" cy="1509480"/>
            <a:chOff x="626760" y="1827360"/>
            <a:chExt cx="8869320" cy="1509480"/>
          </a:xfrm>
        </p:grpSpPr>
        <p:sp>
          <p:nvSpPr>
            <p:cNvPr id="206" name=""/>
            <p:cNvSpPr/>
            <p:nvPr/>
          </p:nvSpPr>
          <p:spPr>
            <a:xfrm>
              <a:off x="630000" y="1827360"/>
              <a:ext cx="8863200" cy="15094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26760" y="1827360"/>
              <a:ext cx="8869320" cy="15094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31640" y="5127480"/>
            <a:ext cx="8869680" cy="1509840"/>
            <a:chOff x="431640" y="5127480"/>
            <a:chExt cx="8869680" cy="1509840"/>
          </a:xfrm>
        </p:grpSpPr>
        <p:sp>
          <p:nvSpPr>
            <p:cNvPr id="209" name=""/>
            <p:cNvSpPr/>
            <p:nvPr/>
          </p:nvSpPr>
          <p:spPr>
            <a:xfrm>
              <a:off x="434520" y="5127480"/>
              <a:ext cx="8863200" cy="15098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31640" y="5127480"/>
              <a:ext cx="8869680" cy="15098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89080" y="1984320"/>
            <a:ext cx="9342360" cy="1201680"/>
          </a:xfrm>
          <a:prstGeom prst="roundRect">
            <a:avLst>
              <a:gd name="adj" fmla="val 33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が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 いきたい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P04"/>
              </a:rPr>
              <a:t>ところ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スペイン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2" name=""/>
          <p:cNvSpPr/>
          <p:nvPr/>
        </p:nvSpPr>
        <p:spPr>
          <a:xfrm>
            <a:off x="287280" y="5195880"/>
            <a:ext cx="9342360" cy="1201680"/>
          </a:xfrm>
          <a:prstGeom prst="roundRect">
            <a:avLst>
              <a:gd name="adj" fmla="val 33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が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すき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P04"/>
              </a:rPr>
              <a:t>な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P04"/>
              </a:rPr>
              <a:t>人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きょうこさん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6920" y="225360"/>
            <a:ext cx="953748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んなでおさけをのむ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こと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"/>
          <p:cNvSpPr/>
          <p:nvPr/>
        </p:nvSpPr>
        <p:spPr>
          <a:xfrm>
            <a:off x="196920" y="225360"/>
            <a:ext cx="953748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んなでおさけをのむ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こと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5" name=""/>
          <p:cNvSpPr/>
          <p:nvPr/>
        </p:nvSpPr>
        <p:spPr>
          <a:xfrm>
            <a:off x="262080" y="376200"/>
            <a:ext cx="953748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んなでおさけをのむ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の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1760" y="111240"/>
            <a:ext cx="5802480" cy="2035080"/>
          </a:xfrm>
          <a:prstGeom prst="roundRect">
            <a:avLst>
              <a:gd name="adj" fmla="val 881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びょういんで たばこ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すいます・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よくな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" name=""/>
          <p:cNvSpPr/>
          <p:nvPr/>
        </p:nvSpPr>
        <p:spPr>
          <a:xfrm>
            <a:off x="6203880" y="2557440"/>
            <a:ext cx="2408400" cy="11844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みかちゃん"/>
              </a:rPr>
              <a:t>No smoking!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" name=""/>
          <p:cNvSpPr/>
          <p:nvPr/>
        </p:nvSpPr>
        <p:spPr>
          <a:xfrm>
            <a:off x="371520" y="299880"/>
            <a:ext cx="5800680" cy="2035440"/>
          </a:xfrm>
          <a:prstGeom prst="roundRect">
            <a:avLst>
              <a:gd name="adj" fmla="val 881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びょういんで たばこ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すう</a:t>
            </a:r>
            <a:r>
              <a:rPr b="0" lang="ja-JP" sz="4000" spc="-1" strike="noStrike">
                <a:solidFill>
                  <a:srgbClr val="ff0000"/>
                </a:solidFill>
                <a:latin typeface="みかちゃん"/>
                <a:ea typeface="YOzFontP04"/>
              </a:rPr>
              <a:t>の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よくな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25560" y="2317680"/>
            <a:ext cx="2786400" cy="631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655640"/>
            <a:ext cx="2104920" cy="7559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9160" y="3279600"/>
            <a:ext cx="6388200" cy="4280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93960" y="947880"/>
            <a:ext cx="6494400" cy="1403280"/>
          </a:xfrm>
          <a:prstGeom prst="wedgeRoundRectCallout">
            <a:avLst>
              <a:gd name="adj1" fmla="val -61680"/>
              <a:gd name="adj2" fmla="val 6621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" name=""/>
          <p:cNvSpPr/>
          <p:nvPr/>
        </p:nvSpPr>
        <p:spPr>
          <a:xfrm>
            <a:off x="3084480" y="1160640"/>
            <a:ext cx="635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むりをするの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らだに よくないですよ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" name=""/>
          <p:cNvSpPr/>
          <p:nvPr/>
        </p:nvSpPr>
        <p:spPr>
          <a:xfrm>
            <a:off x="384120" y="436680"/>
            <a:ext cx="5946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むりをします ・ からだに よくないです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36480" y="4357800"/>
            <a:ext cx="5875560" cy="2035080"/>
          </a:xfrm>
          <a:prstGeom prst="roundRect">
            <a:avLst>
              <a:gd name="adj" fmla="val 881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" name=""/>
          <p:cNvSpPr/>
          <p:nvPr/>
        </p:nvSpPr>
        <p:spPr>
          <a:xfrm>
            <a:off x="809640" y="4738680"/>
            <a:ext cx="558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あさ はやく おきる</a:t>
            </a:r>
            <a:r>
              <a:rPr b="0" lang="ja-JP" sz="4000" spc="-1" strike="noStrike">
                <a:solidFill>
                  <a:srgbClr val="ff0000"/>
                </a:solidFill>
                <a:latin typeface="みかちゃん"/>
                <a:ea typeface="YOzFontP04"/>
              </a:rPr>
              <a:t>の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YOzFont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きもちが い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3556080" y="293760"/>
            <a:ext cx="6207120" cy="4332240"/>
            <a:chOff x="3556080" y="293760"/>
            <a:chExt cx="6207120" cy="4332240"/>
          </a:xfrm>
        </p:grpSpPr>
        <p:sp>
          <p:nvSpPr>
            <p:cNvPr id="68" name=""/>
            <p:cNvSpPr/>
            <p:nvPr/>
          </p:nvSpPr>
          <p:spPr>
            <a:xfrm>
              <a:off x="3556080" y="293760"/>
              <a:ext cx="6207120" cy="4332240"/>
            </a:xfrm>
            <a:prstGeom prst="roundRect">
              <a:avLst>
                <a:gd name="adj" fmla="val 4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3746520" y="1117440"/>
              <a:ext cx="2935440" cy="347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6350040" y="571680"/>
              <a:ext cx="3033720" cy="238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373480" y="3382920"/>
            <a:ext cx="1009440" cy="905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81360" y="4795920"/>
            <a:ext cx="5551560" cy="1679400"/>
          </a:xfrm>
          <a:prstGeom prst="roundRect">
            <a:avLst>
              <a:gd name="adj" fmla="val 106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79280" y="920880"/>
            <a:ext cx="2152800" cy="6638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6040" y="5105520"/>
            <a:ext cx="406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もうをみる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の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き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3411360" y="277920"/>
            <a:ext cx="6207480" cy="4332240"/>
            <a:chOff x="3411360" y="277920"/>
            <a:chExt cx="6207480" cy="4332240"/>
          </a:xfrm>
        </p:grpSpPr>
        <p:sp>
          <p:nvSpPr>
            <p:cNvPr id="76" name=""/>
            <p:cNvSpPr/>
            <p:nvPr/>
          </p:nvSpPr>
          <p:spPr>
            <a:xfrm>
              <a:off x="3411360" y="277920"/>
              <a:ext cx="6207480" cy="4332240"/>
            </a:xfrm>
            <a:prstGeom prst="roundRect">
              <a:avLst>
                <a:gd name="adj" fmla="val 4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4422600" y="360360"/>
              <a:ext cx="3648240" cy="414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373480" y="3382920"/>
            <a:ext cx="1009440" cy="905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745080" y="4719600"/>
            <a:ext cx="5551200" cy="1679760"/>
          </a:xfrm>
          <a:prstGeom prst="roundRect">
            <a:avLst>
              <a:gd name="adj" fmla="val 106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79280" y="920880"/>
            <a:ext cx="2152800" cy="6638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6040" y="5181480"/>
            <a:ext cx="40640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テニスをする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の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き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46040" y="185760"/>
            <a:ext cx="5791320" cy="1670040"/>
          </a:xfrm>
          <a:prstGeom prst="roundRect">
            <a:avLst>
              <a:gd name="adj" fmla="val 1074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99240" y="1928880"/>
            <a:ext cx="2278080" cy="6440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82040" y="2752560"/>
            <a:ext cx="2130120" cy="5627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635360" y="22320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71480" y="358920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3040" y="1820880"/>
            <a:ext cx="2835360" cy="687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55480" y="733320"/>
            <a:ext cx="255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9" name=""/>
          <p:cNvSpPr/>
          <p:nvPr/>
        </p:nvSpPr>
        <p:spPr>
          <a:xfrm>
            <a:off x="657360" y="504720"/>
            <a:ext cx="52560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うたを うたう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の</a:t>
            </a:r>
            <a:r>
              <a:rPr b="0" lang="ja-JP" sz="4000" spc="-1" strike="noStrike">
                <a:solidFill>
                  <a:srgbClr val="800000"/>
                </a:solidFill>
                <a:latin typeface="YOzFontP04"/>
                <a:ea typeface="YOzFontP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じょうず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1:58:03Z</dcterms:created>
  <dc:creator/>
  <dc:description/>
  <dc:language>en-US</dc:language>
  <cp:lastModifiedBy/>
  <dcterms:modified xsi:type="dcterms:W3CDTF">2016-05-24T19:30:48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