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8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24.png" ContentType="image/png"/>
  <Override PartName="/ppt/media/image11.png" ContentType="image/png"/>
  <Override PartName="/ppt/media/image34.gif" ContentType="image/gif"/>
  <Override PartName="/ppt/media/image37.png" ContentType="image/png"/>
  <Override PartName="/ppt/media/image7.png" ContentType="image/png"/>
  <Override PartName="/ppt/media/image27.gif" ContentType="image/gif"/>
  <Override PartName="/ppt/media/image12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2.gif" ContentType="image/gif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4.png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image" Target="../media/image2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4.png"/><Relationship Id="rId4" Type="http://schemas.openxmlformats.org/officeDocument/2006/relationships/image" Target="../media/image30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4.png"/><Relationship Id="rId4" Type="http://schemas.openxmlformats.org/officeDocument/2006/relationships/image" Target="../media/image3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4.png"/><Relationship Id="rId4" Type="http://schemas.openxmlformats.org/officeDocument/2006/relationships/image" Target="../media/image32.gi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4.png"/><Relationship Id="rId4" Type="http://schemas.openxmlformats.org/officeDocument/2006/relationships/image" Target="../media/image3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4.png"/><Relationship Id="rId4" Type="http://schemas.openxmlformats.org/officeDocument/2006/relationships/image" Target="../media/image34.gif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3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89240" y="4568760"/>
            <a:ext cx="54831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そこ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こ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 ど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ちら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ちら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ちら どち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97400" y="585720"/>
            <a:ext cx="397332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080" y="1008000"/>
            <a:ext cx="6323040" cy="1262160"/>
          </a:xfrm>
          <a:prstGeom prst="roundRect">
            <a:avLst>
              <a:gd name="adj" fmla="val 1423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しつ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こ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640" y="2432160"/>
            <a:ext cx="291456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2880" y="1479600"/>
            <a:ext cx="3075120" cy="1325520"/>
          </a:xfrm>
          <a:prstGeom prst="roundRect">
            <a:avLst>
              <a:gd name="adj" fmla="val 135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だ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89160" y="2595600"/>
            <a:ext cx="2152440" cy="65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08920" y="0"/>
            <a:ext cx="429264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4080" y="1008000"/>
            <a:ext cx="6323040" cy="1262160"/>
          </a:xfrm>
          <a:prstGeom prst="roundRect">
            <a:avLst>
              <a:gd name="adj" fmla="val 1423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だ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そこ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58680" y="2478240"/>
            <a:ext cx="3448080" cy="66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440" y="399960"/>
            <a:ext cx="7680240" cy="1314720"/>
          </a:xfrm>
          <a:prstGeom prst="roundRect">
            <a:avLst>
              <a:gd name="adj" fmla="val 136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7000" y="2228760"/>
            <a:ext cx="1723680" cy="16858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32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Lucidasans"/>
                <a:ea typeface="Lucidasans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6280" y="714240"/>
            <a:ext cx="2797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てあら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55800" y="1955880"/>
            <a:ext cx="2533680" cy="780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987880" y="1844640"/>
            <a:ext cx="2152800" cy="653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440" y="399960"/>
            <a:ext cx="7680240" cy="1314720"/>
          </a:xfrm>
          <a:prstGeom prst="roundRect">
            <a:avLst>
              <a:gd name="adj" fmla="val 136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7000" y="2228760"/>
            <a:ext cx="1723680" cy="16858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32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Lucidasans"/>
                <a:ea typeface="Lucidasans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6280" y="714240"/>
            <a:ext cx="67118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てあらい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66880" y="1967040"/>
            <a:ext cx="2457360" cy="755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987880" y="1844640"/>
            <a:ext cx="2152800" cy="653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35680" y="317520"/>
            <a:ext cx="3143520" cy="2990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0440" y="399960"/>
            <a:ext cx="7680240" cy="1314720"/>
          </a:xfrm>
          <a:prstGeom prst="roundRect">
            <a:avLst>
              <a:gd name="adj" fmla="val 136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6280" y="714240"/>
            <a:ext cx="6153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てあらい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48040" y="3668760"/>
            <a:ext cx="2111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9440" y="3230640"/>
            <a:ext cx="25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01600" y="839880"/>
            <a:ext cx="1592280" cy="1189080"/>
          </a:xfrm>
          <a:custGeom>
            <a:avLst/>
            <a:gdLst/>
            <a:ahLst/>
            <a:rect l="l" t="t" r="r" b="b"/>
            <a:pathLst>
              <a:path w="4422" h="3305">
                <a:moveTo>
                  <a:pt x="1221" y="3101"/>
                </a:moveTo>
                <a:cubicBezTo>
                  <a:pt x="1671" y="3304"/>
                  <a:pt x="2162" y="3198"/>
                  <a:pt x="2615" y="3101"/>
                </a:cubicBezTo>
                <a:cubicBezTo>
                  <a:pt x="3118" y="2994"/>
                  <a:pt x="3434" y="2575"/>
                  <a:pt x="3831" y="2279"/>
                </a:cubicBezTo>
                <a:cubicBezTo>
                  <a:pt x="4421" y="1840"/>
                  <a:pt x="3424" y="1459"/>
                  <a:pt x="3044" y="1528"/>
                </a:cubicBezTo>
                <a:cubicBezTo>
                  <a:pt x="2599" y="1609"/>
                  <a:pt x="2136" y="1554"/>
                  <a:pt x="1685" y="1528"/>
                </a:cubicBezTo>
                <a:cubicBezTo>
                  <a:pt x="1239" y="1502"/>
                  <a:pt x="805" y="1339"/>
                  <a:pt x="434" y="1028"/>
                </a:cubicBezTo>
                <a:cubicBezTo>
                  <a:pt x="0" y="665"/>
                  <a:pt x="386" y="0"/>
                  <a:pt x="863" y="134"/>
                </a:cubicBezTo>
                <a:lnTo>
                  <a:pt x="935" y="13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66880" y="1967040"/>
            <a:ext cx="2457360" cy="755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972040" y="3524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2880" y="106200"/>
            <a:ext cx="4397400" cy="444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48640" y="4452840"/>
            <a:ext cx="1119240" cy="1506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51560" y="2622600"/>
            <a:ext cx="1819080" cy="6819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30120" y="2944800"/>
            <a:ext cx="2152800" cy="652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128680" y="958680"/>
            <a:ext cx="314352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75440" y="1692360"/>
            <a:ext cx="3143160" cy="299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0320" y="1955880"/>
            <a:ext cx="7791480" cy="1330200"/>
          </a:xfrm>
          <a:prstGeom prst="roundRect">
            <a:avLst>
              <a:gd name="adj" fmla="val 134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651640" y="2749680"/>
            <a:ext cx="1904760" cy="681984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5419800" y="5972040"/>
            <a:ext cx="4502160" cy="974880"/>
            <a:chOff x="5419800" y="5972040"/>
            <a:chExt cx="4502160" cy="974880"/>
          </a:xfrm>
        </p:grpSpPr>
        <p:sp>
          <p:nvSpPr>
            <p:cNvPr id="138" name=""/>
            <p:cNvSpPr/>
            <p:nvPr/>
          </p:nvSpPr>
          <p:spPr>
            <a:xfrm>
              <a:off x="5419800" y="5972040"/>
              <a:ext cx="4502160" cy="974880"/>
            </a:xfrm>
            <a:prstGeom prst="roundRect">
              <a:avLst>
                <a:gd name="adj" fmla="val 1834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78360" y="6138720"/>
              <a:ext cx="3633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4640" bIns="0" anchor="t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こちら</a:t>
              </a:r>
              <a:r>
                <a:rPr b="0" lang="fr-FR" sz="4400" spc="-1" strike="noStrike">
                  <a:solidFill>
                    <a:srgbClr val="000000"/>
                  </a:solidFill>
                  <a:latin typeface="Times New Roman"/>
                </a:rPr>
                <a:t> です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2200" y="181080"/>
            <a:ext cx="9678960" cy="1492200"/>
          </a:xfrm>
          <a:prstGeom prst="roundRect">
            <a:avLst>
              <a:gd name="adj" fmla="val 10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→こちら そこ→そち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そこ→あちら どこ→どち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040" y="2381400"/>
            <a:ext cx="27972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てあら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86080" y="2365200"/>
            <a:ext cx="44751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ちら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066680" y="297180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920" y="4467240"/>
            <a:ext cx="7118280" cy="1557360"/>
          </a:xfrm>
          <a:prstGeom prst="roundRect">
            <a:avLst>
              <a:gd name="adj" fmla="val 115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7680" y="5006880"/>
            <a:ext cx="683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ばん 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きょうしつ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24040" y="2033640"/>
            <a:ext cx="2162160" cy="1569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85880" y="1660680"/>
            <a:ext cx="1171440" cy="887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2209680" cy="656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25328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25328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87760" y="4811760"/>
            <a:ext cx="7111800" cy="1163520"/>
          </a:xfrm>
          <a:prstGeom prst="roundRect">
            <a:avLst>
              <a:gd name="adj" fmla="val 154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57680" y="5006880"/>
            <a:ext cx="7010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ープレコーダー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 じむしょ で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659480" y="1943280"/>
            <a:ext cx="2433600" cy="158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118040" y="1595520"/>
            <a:ext cx="1171440" cy="887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2209680" cy="65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44600" y="51768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43440" y="2567160"/>
            <a:ext cx="710424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18480" y="2938320"/>
            <a:ext cx="2209680" cy="647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2280" y="561816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57680" y="4440240"/>
            <a:ext cx="201744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294000"/>
            <a:ext cx="201744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25328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687760" y="4811760"/>
            <a:ext cx="7111800" cy="1163520"/>
          </a:xfrm>
          <a:prstGeom prst="roundRect">
            <a:avLst>
              <a:gd name="adj" fmla="val 154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7680" y="5006880"/>
            <a:ext cx="6435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しょ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 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こ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5640" y="3179880"/>
            <a:ext cx="4827600" cy="14968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4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943360" y="5740560"/>
            <a:ext cx="1353960" cy="1577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-109440" y="3486240"/>
            <a:ext cx="2533680" cy="780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25472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38440" y="2935440"/>
            <a:ext cx="7826400" cy="1557360"/>
          </a:xfrm>
          <a:prstGeom prst="roundRect">
            <a:avLst>
              <a:gd name="adj" fmla="val 11528"/>
            </a:avLst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33640" y="3436920"/>
            <a:ext cx="75531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しょ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 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きょうしつ 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046240" y="1042920"/>
            <a:ext cx="1532160" cy="158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31840" y="1015920"/>
            <a:ext cx="1171800" cy="887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467480" y="4113360"/>
            <a:ext cx="2210040" cy="6562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69920" y="37800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9001080" y="2998800"/>
            <a:ext cx="107964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25472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496960" y="4427640"/>
            <a:ext cx="7118640" cy="1557360"/>
          </a:xfrm>
          <a:prstGeom prst="roundRect">
            <a:avLst>
              <a:gd name="adj" fmla="val 115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57680" y="5006880"/>
            <a:ext cx="6400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しつで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849240" y="1162080"/>
            <a:ext cx="1395360" cy="2416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>
            <a:off x="2118960" y="655560"/>
            <a:ext cx="1011240" cy="682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69920" y="3565440"/>
            <a:ext cx="2209680" cy="65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25472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96960" y="4427640"/>
            <a:ext cx="7118640" cy="1557360"/>
          </a:xfrm>
          <a:prstGeom prst="roundRect">
            <a:avLst>
              <a:gd name="adj" fmla="val 115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20960" y="5006880"/>
            <a:ext cx="6858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リナさ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むしょで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45080" y="990720"/>
            <a:ext cx="939600" cy="7729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335480" y="1857240"/>
            <a:ext cx="1467000" cy="2067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69920" y="3565440"/>
            <a:ext cx="2209680" cy="65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25472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94000" y="6037200"/>
            <a:ext cx="1479600" cy="1441440"/>
          </a:xfrm>
          <a:prstGeom prst="roundRect">
            <a:avLst>
              <a:gd name="adj" fmla="val 1244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96960" y="4427640"/>
            <a:ext cx="7118640" cy="1557360"/>
          </a:xfrm>
          <a:prstGeom prst="roundRect">
            <a:avLst>
              <a:gd name="adj" fmla="val 115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680" y="5006880"/>
            <a:ext cx="69926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ろうく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こ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00280" y="3017880"/>
            <a:ext cx="6424560" cy="10983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4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44600" y="3171960"/>
            <a:ext cx="2152440" cy="6522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494080" y="6070680"/>
            <a:ext cx="125100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25472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8677440" y="1033560"/>
            <a:ext cx="1089000" cy="2809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171360" y="3565440"/>
            <a:ext cx="2210040" cy="6562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906720" y="3362400"/>
            <a:ext cx="5094360" cy="1557360"/>
          </a:xfrm>
          <a:prstGeom prst="roundRect">
            <a:avLst>
              <a:gd name="adj" fmla="val 1152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84560" y="3602160"/>
            <a:ext cx="46339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ろうく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てあらい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677000" y="3227400"/>
            <a:ext cx="24019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725472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94000" y="6037200"/>
            <a:ext cx="1479600" cy="1441440"/>
          </a:xfrm>
          <a:prstGeom prst="roundRect">
            <a:avLst>
              <a:gd name="adj" fmla="val 1244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96960" y="4427640"/>
            <a:ext cx="7156800" cy="996840"/>
          </a:xfrm>
          <a:prstGeom prst="roundRect">
            <a:avLst>
              <a:gd name="adj" fmla="val 1799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60840" y="4651200"/>
            <a:ext cx="64166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ジャックさ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ちら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44600" y="3171960"/>
            <a:ext cx="2152440" cy="6522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254320" y="6130800"/>
            <a:ext cx="2238480" cy="3009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38280" y="2759040"/>
            <a:ext cx="6102360" cy="14968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4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8600" y="185760"/>
            <a:ext cx="2784600" cy="3495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254720" y="439560"/>
            <a:ext cx="2708280" cy="3016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811680" y="604800"/>
            <a:ext cx="3057480" cy="2894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290680" y="3411360"/>
            <a:ext cx="5651640" cy="1557360"/>
          </a:xfrm>
          <a:prstGeom prst="roundRect">
            <a:avLst>
              <a:gd name="adj" fmla="val 1152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78120" y="3616200"/>
            <a:ext cx="4267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ジャック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むしょで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014800" y="1450800"/>
            <a:ext cx="1635120" cy="1973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7388280" y="3422520"/>
            <a:ext cx="2442960" cy="3756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376200" y="3659040"/>
            <a:ext cx="2152800" cy="653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660680"/>
            <a:ext cx="5637240" cy="1017360"/>
          </a:xfrm>
          <a:prstGeom prst="roundRect">
            <a:avLst>
              <a:gd name="adj" fmla="val 176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0000" y="514440"/>
            <a:ext cx="1441440" cy="579240"/>
          </a:xfrm>
          <a:prstGeom prst="ellipse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ボルド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38440" y="515880"/>
            <a:ext cx="1506600" cy="655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63680" y="272880"/>
            <a:ext cx="1969920" cy="266760"/>
          </a:xfrm>
          <a:custGeom>
            <a:avLst/>
            <a:gdLst/>
            <a:ahLst/>
            <a:rect l="l" t="t" r="r" b="b"/>
            <a:pathLst>
              <a:path w="5472" h="743">
                <a:moveTo>
                  <a:pt x="5471" y="707"/>
                </a:moveTo>
                <a:cubicBezTo>
                  <a:pt x="5241" y="254"/>
                  <a:pt x="4733" y="277"/>
                  <a:pt x="4326" y="170"/>
                </a:cubicBezTo>
                <a:cubicBezTo>
                  <a:pt x="3939" y="69"/>
                  <a:pt x="3540" y="54"/>
                  <a:pt x="3146" y="27"/>
                </a:cubicBezTo>
                <a:cubicBezTo>
                  <a:pt x="2742" y="0"/>
                  <a:pt x="2334" y="53"/>
                  <a:pt x="1931" y="27"/>
                </a:cubicBezTo>
                <a:cubicBezTo>
                  <a:pt x="1550" y="3"/>
                  <a:pt x="1190" y="115"/>
                  <a:pt x="822" y="170"/>
                </a:cubicBezTo>
                <a:lnTo>
                  <a:pt x="429" y="313"/>
                </a:lnTo>
                <a:lnTo>
                  <a:pt x="36" y="599"/>
                </a:lnTo>
                <a:lnTo>
                  <a:pt x="0" y="74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40" y="1801800"/>
            <a:ext cx="56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Times New Roman"/>
              </a:rPr>
              <a:t>どちら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から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きました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57640" y="334800"/>
            <a:ext cx="4813200" cy="117180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にほん？ ちゅうごく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かんこく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7360" y="861840"/>
            <a:ext cx="914400" cy="914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13400" y="2070000"/>
            <a:ext cx="4567320" cy="1190880"/>
          </a:xfrm>
          <a:prstGeom prst="roundRect">
            <a:avLst>
              <a:gd name="adj" fmla="val 1506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から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 きまし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203480" y="2419200"/>
            <a:ext cx="2401560" cy="7560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377040" y="2959200"/>
            <a:ext cx="2485800" cy="75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1660680"/>
            <a:ext cx="5637240" cy="1017360"/>
          </a:xfrm>
          <a:prstGeom prst="roundRect">
            <a:avLst>
              <a:gd name="adj" fmla="val 176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0000" y="514440"/>
            <a:ext cx="1441440" cy="579240"/>
          </a:xfrm>
          <a:prstGeom prst="ellipse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ボルド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38440" y="515880"/>
            <a:ext cx="1506600" cy="655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63680" y="272880"/>
            <a:ext cx="1969920" cy="266760"/>
          </a:xfrm>
          <a:custGeom>
            <a:avLst/>
            <a:gdLst/>
            <a:ahLst/>
            <a:rect l="l" t="t" r="r" b="b"/>
            <a:pathLst>
              <a:path w="5472" h="743">
                <a:moveTo>
                  <a:pt x="5471" y="707"/>
                </a:moveTo>
                <a:cubicBezTo>
                  <a:pt x="5241" y="254"/>
                  <a:pt x="4733" y="277"/>
                  <a:pt x="4326" y="170"/>
                </a:cubicBezTo>
                <a:cubicBezTo>
                  <a:pt x="3939" y="69"/>
                  <a:pt x="3540" y="54"/>
                  <a:pt x="3146" y="27"/>
                </a:cubicBezTo>
                <a:cubicBezTo>
                  <a:pt x="2742" y="0"/>
                  <a:pt x="2334" y="53"/>
                  <a:pt x="1931" y="27"/>
                </a:cubicBezTo>
                <a:cubicBezTo>
                  <a:pt x="1550" y="3"/>
                  <a:pt x="1190" y="115"/>
                  <a:pt x="822" y="170"/>
                </a:cubicBezTo>
                <a:lnTo>
                  <a:pt x="429" y="313"/>
                </a:lnTo>
                <a:lnTo>
                  <a:pt x="36" y="599"/>
                </a:lnTo>
                <a:lnTo>
                  <a:pt x="0" y="74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040" y="1801800"/>
            <a:ext cx="56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068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Times New Roman"/>
              </a:rPr>
              <a:t>おくに</a:t>
            </a:r>
            <a:r>
              <a:rPr b="0" lang="ja-JP" sz="4000" spc="-1" strike="noStrike">
                <a:solidFill>
                  <a:srgbClr val="800000"/>
                </a:solidFill>
                <a:latin typeface="Times New Roman"/>
              </a:rPr>
              <a:t>は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Times New Roman"/>
              </a:rPr>
              <a:t>どちら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57640" y="334800"/>
            <a:ext cx="4813200" cy="117180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にほん？ ちゅうごく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かんこく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7360" y="861840"/>
            <a:ext cx="914400" cy="914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1080" y="1158840"/>
            <a:ext cx="2703240" cy="657360"/>
          </a:xfrm>
          <a:custGeom>
            <a:avLst/>
            <a:gdLst/>
            <a:ahLst/>
            <a:rect l="l" t="t" r="r" b="b"/>
            <a:pathLst>
              <a:path w="7509" h="1824">
                <a:moveTo>
                  <a:pt x="7508" y="0"/>
                </a:moveTo>
                <a:lnTo>
                  <a:pt x="0" y="1823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43080" y="2595600"/>
            <a:ext cx="2401920" cy="7559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848200" y="1528920"/>
            <a:ext cx="4232520" cy="1196640"/>
          </a:xfrm>
          <a:prstGeom prst="roundRect">
            <a:avLst>
              <a:gd name="adj" fmla="val 1498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に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3200" spc="-1" strike="noStrike">
                <a:solidFill>
                  <a:srgbClr val="0000ff"/>
                </a:solidFill>
                <a:latin typeface="YOzFontNP04"/>
                <a:ea typeface="YOzFontNP04"/>
              </a:rPr>
              <a:t>にほん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726240" y="2570040"/>
            <a:ext cx="2486160" cy="753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2400480" y="-3780000"/>
            <a:ext cx="14135400" cy="530388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05200" y="1257480"/>
            <a:ext cx="6705720" cy="10082160"/>
          </a:xfrm>
          <a:prstGeom prst="ellipse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5143680" y="1200240"/>
            <a:ext cx="9830160" cy="1013940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8200" y="2825640"/>
            <a:ext cx="2210040" cy="6478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77000" y="2036880"/>
            <a:ext cx="24019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06760" y="348444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076480" y="299088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21320" y="363852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991040" y="3143160"/>
            <a:ext cx="857160" cy="102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25720" y="53352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971800" y="9684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82720" y="485784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190600" y="4457880"/>
            <a:ext cx="800280" cy="90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21320" y="521964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029200" y="4819680"/>
            <a:ext cx="800280" cy="90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714840" y="0"/>
            <a:ext cx="79992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98360" y="2398680"/>
            <a:ext cx="2733840" cy="6534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76280" y="59220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7800" y="706320"/>
            <a:ext cx="6186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かば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354400" y="2344680"/>
            <a:ext cx="152388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8360" y="2398680"/>
            <a:ext cx="2733840" cy="6534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76280" y="592200"/>
            <a:ext cx="8710560" cy="1022400"/>
          </a:xfrm>
          <a:prstGeom prst="roundRect">
            <a:avLst>
              <a:gd name="adj" fmla="val 175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7800" y="706320"/>
            <a:ext cx="8575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イタリア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ばん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354400" y="2344680"/>
            <a:ext cx="1523880" cy="2219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745080" y="4343400"/>
            <a:ext cx="4246560" cy="103356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itstream Vera Sans"/>
              </a:rPr>
              <a:t>made in It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98360" y="2398680"/>
            <a:ext cx="2733840" cy="6534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76280" y="592200"/>
            <a:ext cx="8775720" cy="1006560"/>
          </a:xfrm>
          <a:prstGeom prst="roundRect">
            <a:avLst>
              <a:gd name="adj" fmla="val 1781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800" y="706320"/>
            <a:ext cx="7850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ワイン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301840" y="3051000"/>
            <a:ext cx="474840" cy="1673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808360" y="4262400"/>
            <a:ext cx="4440240" cy="1371600"/>
          </a:xfrm>
          <a:prstGeom prst="roundRect">
            <a:avLst>
              <a:gd name="adj" fmla="val 1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さざなみ明朝"/>
              </a:rPr>
              <a:t>made in Ita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さざなみ明朝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さざなみ明朝"/>
              </a:rPr>
              <a:t>France? Sp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21320" y="3575160"/>
            <a:ext cx="914400" cy="914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323120" y="2114640"/>
            <a:ext cx="24019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8360" y="2398680"/>
            <a:ext cx="2733840" cy="6534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19040" y="527040"/>
            <a:ext cx="9315360" cy="1006560"/>
          </a:xfrm>
          <a:prstGeom prst="roundRect">
            <a:avLst>
              <a:gd name="adj" fmla="val 1781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7800" y="706320"/>
            <a:ext cx="9109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フランス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ワイン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301840" y="3051000"/>
            <a:ext cx="474840" cy="1673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60880" y="2421000"/>
            <a:ext cx="4440240" cy="1371600"/>
          </a:xfrm>
          <a:prstGeom prst="roundRect">
            <a:avLst>
              <a:gd name="adj" fmla="val 1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itstream Vera Sans"/>
              </a:rPr>
              <a:t>made in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323120" y="2112840"/>
            <a:ext cx="24019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89000" y="677880"/>
            <a:ext cx="4308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マイクロソフト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17840" y="1727280"/>
            <a:ext cx="5583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4262400"/>
            <a:ext cx="5583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で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040" y="2739960"/>
            <a:ext cx="8910720" cy="1006560"/>
          </a:xfrm>
          <a:prstGeom prst="roundRect">
            <a:avLst>
              <a:gd name="adj" fmla="val 1781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2880" y="2917800"/>
            <a:ext cx="87138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コンピューター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01880" y="5322960"/>
            <a:ext cx="7200720" cy="1006560"/>
          </a:xfrm>
          <a:prstGeom prst="roundRect">
            <a:avLst>
              <a:gd name="adj" fmla="val 1781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52360" y="5500800"/>
            <a:ext cx="7458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アメリカ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98360" y="2398680"/>
            <a:ext cx="2733840" cy="6534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76280" y="592200"/>
            <a:ext cx="8710560" cy="1022400"/>
          </a:xfrm>
          <a:prstGeom prst="roundRect">
            <a:avLst>
              <a:gd name="adj" fmla="val 175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7800" y="706320"/>
            <a:ext cx="3684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かば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354400" y="2344680"/>
            <a:ext cx="1523880" cy="2219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745080" y="4343400"/>
            <a:ext cx="4246560" cy="103356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さざなみ明朝"/>
              </a:rPr>
              <a:t>￥</a:t>
            </a:r>
            <a:r>
              <a:rPr b="0" lang="fr-FR" sz="4800" spc="-1" strike="noStrike">
                <a:solidFill>
                  <a:srgbClr val="000000"/>
                </a:solidFill>
                <a:latin typeface="さざなみ明朝"/>
              </a:rPr>
              <a:t>20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00680" y="673200"/>
            <a:ext cx="46846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20000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え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98360" y="2398680"/>
            <a:ext cx="2733840" cy="6534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76280" y="592200"/>
            <a:ext cx="8775720" cy="1006560"/>
          </a:xfrm>
          <a:prstGeom prst="roundRect">
            <a:avLst>
              <a:gd name="adj" fmla="val 1781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301840" y="3051000"/>
            <a:ext cx="474840" cy="1673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808360" y="4262400"/>
            <a:ext cx="4440240" cy="1371600"/>
          </a:xfrm>
          <a:prstGeom prst="roundRect">
            <a:avLst>
              <a:gd name="adj" fmla="val 1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3000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10000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21320" y="3575160"/>
            <a:ext cx="914400" cy="914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323120" y="2114640"/>
            <a:ext cx="2401920" cy="75596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77800" y="706320"/>
            <a:ext cx="3684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ワイン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00680" y="673200"/>
            <a:ext cx="46846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くら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8360" y="2398680"/>
            <a:ext cx="2733840" cy="6534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19040" y="527040"/>
            <a:ext cx="9315360" cy="1006560"/>
          </a:xfrm>
          <a:prstGeom prst="roundRect">
            <a:avLst>
              <a:gd name="adj" fmla="val 1781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7800" y="706320"/>
            <a:ext cx="9109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のワイン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r>
              <a:rPr b="0" lang="fr-FR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2800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で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301840" y="3051000"/>
            <a:ext cx="474840" cy="1673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7323120" y="2112840"/>
            <a:ext cx="2401920" cy="7559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808360" y="4262400"/>
            <a:ext cx="4440240" cy="1371600"/>
          </a:xfrm>
          <a:prstGeom prst="roundRect">
            <a:avLst>
              <a:gd name="adj" fmla="val 1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￥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2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14400" y="641520"/>
            <a:ext cx="4284720" cy="4652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4440" y="2776680"/>
            <a:ext cx="2790720" cy="6538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5120" y="5057640"/>
            <a:ext cx="7800840" cy="1378080"/>
          </a:xfrm>
          <a:prstGeom prst="roundRect">
            <a:avLst>
              <a:gd name="adj" fmla="val 1301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08080" y="5483160"/>
            <a:ext cx="6327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ここ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きょうしつ 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25960" y="861840"/>
            <a:ext cx="429228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05120" y="5057640"/>
            <a:ext cx="7800840" cy="1378080"/>
          </a:xfrm>
          <a:prstGeom prst="roundRect">
            <a:avLst>
              <a:gd name="adj" fmla="val 1301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08080" y="5483160"/>
            <a:ext cx="6327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そこ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だん 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03600" y="2776320"/>
            <a:ext cx="1338120" cy="817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4440" y="2776680"/>
            <a:ext cx="2790720" cy="65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27680" y="493560"/>
            <a:ext cx="2907000" cy="3311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5120" y="5057640"/>
            <a:ext cx="7800840" cy="1378080"/>
          </a:xfrm>
          <a:prstGeom prst="roundRect">
            <a:avLst>
              <a:gd name="adj" fmla="val 1301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8080" y="5483160"/>
            <a:ext cx="683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あそこ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てあらい 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9920" y="2289240"/>
            <a:ext cx="3800520" cy="1665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6240" y="2776680"/>
            <a:ext cx="3338280" cy="65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681360" y="51768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2454120" y="2567160"/>
            <a:ext cx="710388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5880" y="3205080"/>
            <a:ext cx="2948040" cy="1274760"/>
          </a:xfrm>
          <a:prstGeom prst="roundRect">
            <a:avLst>
              <a:gd name="adj" fmla="val 12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696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Times New Roman"/>
              </a:rPr>
              <a:t>こ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32680" y="2021040"/>
            <a:ext cx="2948040" cy="1274760"/>
          </a:xfrm>
          <a:prstGeom prst="roundRect">
            <a:avLst>
              <a:gd name="adj" fmla="val 12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あそ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1360" y="2786040"/>
            <a:ext cx="2948040" cy="1106640"/>
          </a:xfrm>
          <a:prstGeom prst="roundRect">
            <a:avLst>
              <a:gd name="adj" fmla="val 1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そ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8360" y="4159080"/>
            <a:ext cx="2914560" cy="653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99000" y="3780000"/>
            <a:ext cx="245736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5200" y="372960"/>
            <a:ext cx="6294600" cy="2317680"/>
          </a:xfrm>
          <a:prstGeom prst="roundRect">
            <a:avLst>
              <a:gd name="adj" fmla="val 773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こ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てあらい 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0720" y="1235160"/>
            <a:ext cx="16988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そ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3681360" y="51768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2454120" y="2567160"/>
            <a:ext cx="710388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880" y="3205080"/>
            <a:ext cx="2948040" cy="1274760"/>
          </a:xfrm>
          <a:prstGeom prst="roundRect">
            <a:avLst>
              <a:gd name="adj" fmla="val 12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696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Times New Roman"/>
              </a:rPr>
              <a:t>こち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32680" y="2021040"/>
            <a:ext cx="2948040" cy="1274760"/>
          </a:xfrm>
          <a:prstGeom prst="roundRect">
            <a:avLst>
              <a:gd name="adj" fmla="val 12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あち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8360" y="4159080"/>
            <a:ext cx="2914560" cy="653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5200" y="372960"/>
            <a:ext cx="6935760" cy="2317680"/>
          </a:xfrm>
          <a:prstGeom prst="roundRect">
            <a:avLst>
              <a:gd name="adj" fmla="val 773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ちら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てあらい 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720" y="1235160"/>
            <a:ext cx="16988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ち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ち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29320" y="3556080"/>
            <a:ext cx="2485800" cy="7191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70360" y="2430360"/>
            <a:ext cx="2948040" cy="1106640"/>
          </a:xfrm>
          <a:prstGeom prst="roundRect">
            <a:avLst>
              <a:gd name="adj" fmla="val 1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そち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479600"/>
            <a:ext cx="3075120" cy="1325520"/>
          </a:xfrm>
          <a:prstGeom prst="roundRect">
            <a:avLst>
              <a:gd name="adj" fmla="val 135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し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89160" y="2595600"/>
            <a:ext cx="2152440" cy="652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6:30:38Z</dcterms:created>
  <dc:creator/>
  <dc:description/>
  <dc:language>en-US</dc:language>
  <cp:lastModifiedBy/>
  <dcterms:modified xsi:type="dcterms:W3CDTF">2016-05-24T19:15:18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