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6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4408560"/>
            <a:ext cx="548316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を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(COD) 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で …し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しませんか </a:t>
            </a: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しましょ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5400" y="1779480"/>
            <a:ext cx="7311960" cy="3151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8120" y="293760"/>
            <a:ext cx="9507600" cy="1369800"/>
            <a:chOff x="168120" y="293760"/>
            <a:chExt cx="9507600" cy="1369800"/>
          </a:xfrm>
        </p:grpSpPr>
        <p:sp>
          <p:nvSpPr>
            <p:cNvPr id="101" name=""/>
            <p:cNvSpPr/>
            <p:nvPr/>
          </p:nvSpPr>
          <p:spPr>
            <a:xfrm>
              <a:off x="168120" y="293760"/>
              <a:ext cx="9507600" cy="136980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もだち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に</a:t>
              </a:r>
              <a:r>
                <a:rPr b="0" lang="en-US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あいま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9520" y="237960"/>
            <a:ext cx="2590920" cy="14702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1303200" y="2633760"/>
            <a:ext cx="6008760" cy="3571920"/>
          </a:xfrm>
          <a:prstGeom prst="ellipse">
            <a:avLst/>
          </a:prstGeom>
          <a:solidFill>
            <a:srgbClr val="ff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2801880" y="266760"/>
            <a:ext cx="6919920" cy="14842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何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に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)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しますか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37960"/>
            <a:ext cx="2801880" cy="14702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ちよう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2801880" y="266760"/>
            <a:ext cx="6919920" cy="14842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何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に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)</a:t>
            </a:r>
            <a:r>
              <a:rPr b="0" lang="ja-JP" sz="6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も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しません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50840" y="2270160"/>
            <a:ext cx="2433600" cy="3162240"/>
            <a:chOff x="1050840" y="2270160"/>
            <a:chExt cx="2433600" cy="3162240"/>
          </a:xfrm>
        </p:grpSpPr>
        <p:sp>
          <p:nvSpPr>
            <p:cNvPr id="108" name=""/>
            <p:cNvSpPr/>
            <p:nvPr/>
          </p:nvSpPr>
          <p:spPr>
            <a:xfrm flipH="1">
              <a:off x="1050840" y="2270160"/>
              <a:ext cx="243360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3720" y="2270160"/>
              <a:ext cx="242712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81640" y="4146480"/>
            <a:ext cx="2433600" cy="3162240"/>
            <a:chOff x="4481640" y="4146480"/>
            <a:chExt cx="2433600" cy="3162240"/>
          </a:xfrm>
        </p:grpSpPr>
        <p:sp>
          <p:nvSpPr>
            <p:cNvPr id="111" name=""/>
            <p:cNvSpPr/>
            <p:nvPr/>
          </p:nvSpPr>
          <p:spPr>
            <a:xfrm flipH="1">
              <a:off x="4481640" y="4146480"/>
              <a:ext cx="243360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83080" y="4146480"/>
              <a:ext cx="242712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22760" y="1890720"/>
            <a:ext cx="2433600" cy="3162240"/>
            <a:chOff x="4622760" y="1890720"/>
            <a:chExt cx="2433600" cy="3162240"/>
          </a:xfrm>
        </p:grpSpPr>
        <p:sp>
          <p:nvSpPr>
            <p:cNvPr id="114" name=""/>
            <p:cNvSpPr/>
            <p:nvPr/>
          </p:nvSpPr>
          <p:spPr>
            <a:xfrm flipH="1">
              <a:off x="4622760" y="1890720"/>
              <a:ext cx="243360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5640" y="1890720"/>
              <a:ext cx="2427120" cy="3162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120760"/>
            <a:ext cx="1801800" cy="4867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1944720" y="3936960"/>
            <a:ext cx="4384800" cy="6336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352440" y="312840"/>
            <a:ext cx="3392640" cy="11221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パート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5897520" y="287280"/>
            <a:ext cx="339264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352440"/>
            <a:ext cx="1109880" cy="110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00640" y="2014560"/>
            <a:ext cx="3832200" cy="23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1000" y="1622520"/>
            <a:ext cx="9502560" cy="559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80160" y="1892160"/>
            <a:ext cx="1725480" cy="489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70360" y="4325760"/>
            <a:ext cx="5956200" cy="285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98840" y="2173320"/>
            <a:ext cx="2743200" cy="514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51280" y="3638520"/>
            <a:ext cx="1341720" cy="1266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2440" y="312840"/>
            <a:ext cx="2583000" cy="11221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パート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4397400" y="287280"/>
            <a:ext cx="489420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339840"/>
            <a:ext cx="1109520" cy="110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840" y="144360"/>
            <a:ext cx="3022560" cy="129060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4397400" y="287280"/>
            <a:ext cx="5562720" cy="11206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3289320" y="318960"/>
            <a:ext cx="1109520" cy="1109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6200" y="3933720"/>
            <a:ext cx="4303800" cy="341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75360" y="1585800"/>
            <a:ext cx="3814560" cy="552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97520" y="2179800"/>
            <a:ext cx="1765440" cy="5126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2440" y="312840"/>
            <a:ext cx="2583000" cy="11221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4397400" y="287280"/>
            <a:ext cx="489420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3041640" y="339840"/>
            <a:ext cx="1109520" cy="110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2840" y="1174680"/>
            <a:ext cx="6707160" cy="626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62520" y="1447920"/>
            <a:ext cx="1752840" cy="528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70360" y="4325760"/>
            <a:ext cx="595620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53880" y="312840"/>
            <a:ext cx="2583000" cy="11221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4397400" y="287280"/>
            <a:ext cx="489420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>
            <a:off x="3041640" y="339840"/>
            <a:ext cx="1109520" cy="110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38440" y="932040"/>
            <a:ext cx="3814920" cy="5527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28760" y="938160"/>
            <a:ext cx="6008760" cy="3571920"/>
          </a:xfrm>
          <a:prstGeom prst="ellipse">
            <a:avLst/>
          </a:prstGeom>
          <a:solidFill>
            <a:srgbClr val="ff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4010040" y="206280"/>
            <a:ext cx="6041880" cy="12016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312840"/>
            <a:ext cx="3794040" cy="1131840"/>
            <a:chOff x="0" y="312840"/>
            <a:chExt cx="3794040" cy="1131840"/>
          </a:xfrm>
        </p:grpSpPr>
        <p:sp>
          <p:nvSpPr>
            <p:cNvPr id="149" name=""/>
            <p:cNvSpPr/>
            <p:nvPr/>
          </p:nvSpPr>
          <p:spPr>
            <a:xfrm>
              <a:off x="0" y="312840"/>
              <a:ext cx="2579760" cy="111744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どこ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7760" y="339840"/>
              <a:ext cx="1106280" cy="1104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で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43200" y="2795760"/>
            <a:ext cx="6315120" cy="45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8000" y="144360"/>
            <a:ext cx="7164360" cy="2060640"/>
          </a:xfrm>
          <a:prstGeom prst="roundRect">
            <a:avLst>
              <a:gd name="adj" fmla="val 87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のかばん、いいですね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	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で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した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534960" y="1042920"/>
            <a:ext cx="1631880" cy="992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238880" y="2448000"/>
            <a:ext cx="2594160" cy="2759040"/>
            <a:chOff x="7238880" y="2448000"/>
            <a:chExt cx="2594160" cy="2759040"/>
          </a:xfrm>
        </p:grpSpPr>
        <p:sp>
          <p:nvSpPr>
            <p:cNvPr id="155" name=""/>
            <p:cNvSpPr/>
            <p:nvPr/>
          </p:nvSpPr>
          <p:spPr>
            <a:xfrm>
              <a:off x="7238880" y="2692440"/>
              <a:ext cx="2594160" cy="2514600"/>
            </a:xfrm>
            <a:prstGeom prst="roundRect">
              <a:avLst>
                <a:gd name="adj" fmla="val 712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080" y="2448000"/>
              <a:ext cx="1116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パリ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9600" y="1917720"/>
            <a:ext cx="3363840" cy="6594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25960" y="1906560"/>
            <a:ext cx="2963880" cy="660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86320" y="5570640"/>
            <a:ext cx="2914560" cy="1811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72440" y="3516480"/>
            <a:ext cx="2271600" cy="13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88840" y="1511280"/>
            <a:ext cx="8159760" cy="578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10000" y="3119400"/>
            <a:ext cx="2773440" cy="2905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1806480" y="1611360"/>
            <a:ext cx="2003400" cy="2012760"/>
          </a:xfrm>
          <a:custGeom>
            <a:avLst/>
            <a:gdLst/>
            <a:ahLst/>
            <a:rect l="l" t="t" r="r" b="b"/>
            <a:pathLst>
              <a:path w="5564" h="5591">
                <a:moveTo>
                  <a:pt x="5563" y="559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504720"/>
            <a:ext cx="2352600" cy="11210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ン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2787480" y="47628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を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39000" y="496800"/>
            <a:ext cx="3581280" cy="1130400"/>
            <a:chOff x="6039000" y="496800"/>
            <a:chExt cx="3581280" cy="1130400"/>
          </a:xfrm>
        </p:grpSpPr>
        <p:sp>
          <p:nvSpPr>
            <p:cNvPr id="53" name=""/>
            <p:cNvSpPr/>
            <p:nvPr/>
          </p:nvSpPr>
          <p:spPr>
            <a:xfrm>
              <a:off x="6039000" y="496800"/>
              <a:ext cx="3581280" cy="113040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べま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620040" y="4361040"/>
            <a:ext cx="2065320" cy="2990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6200" y="4398840"/>
            <a:ext cx="4581720" cy="270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1579680" y="1785600"/>
            <a:ext cx="5387760" cy="3747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384120" y="223920"/>
            <a:ext cx="2324160" cy="674640"/>
          </a:xfrm>
          <a:prstGeom prst="roundRect">
            <a:avLst>
              <a:gd name="adj" fmla="val 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パート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4183200" y="208080"/>
            <a:ext cx="2323800" cy="674640"/>
          </a:xfrm>
          <a:prstGeom prst="roundRect">
            <a:avLst>
              <a:gd name="adj" fmla="val 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2851200" y="247680"/>
            <a:ext cx="760320" cy="66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94000" y="4454640"/>
            <a:ext cx="930240" cy="2708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3749760"/>
            <a:ext cx="1393560" cy="620640"/>
          </a:xfrm>
          <a:prstGeom prst="roundRect">
            <a:avLst>
              <a:gd name="adj" fmla="val 2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パー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2716200" y="3735360"/>
            <a:ext cx="2638440" cy="622440"/>
          </a:xfrm>
          <a:prstGeom prst="roundRect">
            <a:avLst>
              <a:gd name="adj" fmla="val 2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CD</a:t>
            </a:r>
            <a:r>
              <a:rPr b="0" lang="ja-JP" sz="2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す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1984320" y="3763800"/>
            <a:ext cx="598680" cy="61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291280" y="3662280"/>
            <a:ext cx="1412640" cy="596880"/>
          </a:xfrm>
          <a:prstGeom prst="roundRect">
            <a:avLst>
              <a:gd name="adj" fmla="val 2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7246800" y="3665520"/>
            <a:ext cx="2692440" cy="581040"/>
          </a:xfrm>
          <a:prstGeom prst="roundRect">
            <a:avLst>
              <a:gd name="adj" fmla="val 27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。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6754680" y="3710160"/>
            <a:ext cx="538200" cy="5554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782640" y="6262560"/>
            <a:ext cx="4775040" cy="1135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779480" y="5802480"/>
            <a:ext cx="3211560" cy="1582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24600" y="4844880"/>
            <a:ext cx="3209760" cy="250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24600" y="6300720"/>
            <a:ext cx="4775040" cy="1135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6119640" y="1906560"/>
            <a:ext cx="1513080" cy="15526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ヘ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4446720" y="5052960"/>
            <a:ext cx="1512720" cy="15526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1263600" y="4700520"/>
            <a:ext cx="1366920" cy="2743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2254320" y="5421240"/>
            <a:ext cx="723960" cy="70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746280" y="785880"/>
            <a:ext cx="1158840" cy="3127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7240680" y="625320"/>
            <a:ext cx="270828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5120" y="115920"/>
            <a:ext cx="649764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698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600120" y="692280"/>
            <a:ext cx="1531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dim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2570040" y="3340080"/>
            <a:ext cx="4370400" cy="386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" y="269388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921360" y="3719520"/>
            <a:ext cx="2152800" cy="6534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963960" y="428760"/>
            <a:ext cx="231624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037800" cy="3006720"/>
            <a:chOff x="0" y="0"/>
            <a:chExt cx="9037800" cy="3006720"/>
          </a:xfrm>
        </p:grpSpPr>
        <p:sp>
          <p:nvSpPr>
            <p:cNvPr id="194" name=""/>
            <p:cNvSpPr/>
            <p:nvPr/>
          </p:nvSpPr>
          <p:spPr>
            <a:xfrm>
              <a:off x="631800" y="0"/>
              <a:ext cx="8288280" cy="3006720"/>
            </a:xfrm>
            <a:prstGeom prst="roundRect">
              <a:avLst>
                <a:gd name="adj" fmla="val 5958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66840"/>
              <a:ext cx="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596880"/>
              <a:ext cx="79218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ちようび、びじゅつかん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(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r>
                <a:rPr b="0" lang="en-US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きませんか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2570040" y="3340080"/>
            <a:ext cx="4370400" cy="386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754440" y="2539800"/>
            <a:ext cx="163440" cy="128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0840" y="2664000"/>
            <a:ext cx="2401560" cy="755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085160" y="3689280"/>
            <a:ext cx="215244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138480" y="195120"/>
            <a:ext cx="6775560" cy="2894040"/>
            <a:chOff x="3138480" y="195120"/>
            <a:chExt cx="6775560" cy="2894040"/>
          </a:xfrm>
        </p:grpSpPr>
        <p:sp>
          <p:nvSpPr>
            <p:cNvPr id="204" name=""/>
            <p:cNvSpPr/>
            <p:nvPr/>
          </p:nvSpPr>
          <p:spPr>
            <a:xfrm>
              <a:off x="3643200" y="195120"/>
              <a:ext cx="6270840" cy="2894040"/>
            </a:xfrm>
            <a:prstGeom prst="roundRect">
              <a:avLst>
                <a:gd name="adj" fmla="val 6194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8480" y="547560"/>
              <a:ext cx="360" cy="363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83040" y="770040"/>
              <a:ext cx="5708520" cy="1216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ええ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、いいですね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きましょう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389560" y="3822840"/>
            <a:ext cx="744480" cy="744480"/>
          </a:xfrm>
          <a:prstGeom prst="ellipse">
            <a:avLst/>
          </a:prstGeom>
          <a:noFill/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19760" y="2619000"/>
            <a:ext cx="25560" cy="11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0360" y="245592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940440" y="348156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138480" y="195120"/>
            <a:ext cx="6775560" cy="2894040"/>
            <a:chOff x="3138480" y="195120"/>
            <a:chExt cx="6775560" cy="2894040"/>
          </a:xfrm>
        </p:grpSpPr>
        <p:sp>
          <p:nvSpPr>
            <p:cNvPr id="212" name=""/>
            <p:cNvSpPr/>
            <p:nvPr/>
          </p:nvSpPr>
          <p:spPr>
            <a:xfrm>
              <a:off x="3643200" y="195120"/>
              <a:ext cx="6270840" cy="2894040"/>
            </a:xfrm>
            <a:prstGeom prst="roundRect">
              <a:avLst>
                <a:gd name="adj" fmla="val 6194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8480" y="547560"/>
              <a:ext cx="360" cy="363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83040" y="770040"/>
              <a:ext cx="5708520" cy="1825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すみません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にちようび</a:t>
              </a:r>
              <a:r>
                <a:rPr b="0" lang="ja-JP" sz="48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は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ちょっと…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819760" y="2619000"/>
            <a:ext cx="25560" cy="11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372280" y="3770280"/>
            <a:ext cx="815760" cy="80964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5375160" y="3772080"/>
            <a:ext cx="809640" cy="80928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3197160" y="3614760"/>
            <a:ext cx="2075040" cy="925560"/>
          </a:xfrm>
          <a:prstGeom prst="roundRect">
            <a:avLst>
              <a:gd name="adj" fmla="val 19412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dim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9520" y="261936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059600" y="364500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5173560" cy="2936880"/>
            <a:chOff x="0" y="0"/>
            <a:chExt cx="5173560" cy="2936880"/>
          </a:xfrm>
        </p:grpSpPr>
        <p:grpSp>
          <p:nvGrpSpPr>
            <p:cNvPr id="222" name=""/>
            <p:cNvGrpSpPr/>
            <p:nvPr/>
          </p:nvGrpSpPr>
          <p:grpSpPr>
            <a:xfrm>
              <a:off x="0" y="0"/>
              <a:ext cx="5173560" cy="2936880"/>
              <a:chOff x="0" y="0"/>
              <a:chExt cx="5173560" cy="2936880"/>
            </a:xfrm>
          </p:grpSpPr>
          <p:sp>
            <p:nvSpPr>
              <p:cNvPr id="223" name=""/>
              <p:cNvSpPr/>
              <p:nvPr/>
            </p:nvSpPr>
            <p:spPr>
              <a:xfrm>
                <a:off x="385920" y="0"/>
                <a:ext cx="4787640" cy="2852640"/>
              </a:xfrm>
              <a:prstGeom prst="roundRect">
                <a:avLst>
                  <a:gd name="adj" fmla="val 6282"/>
                </a:avLst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47760"/>
                <a:ext cx="360" cy="363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4400" y="566640"/>
                <a:ext cx="4359240" cy="2370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3680" bIns="0" anchor="t">
                <a:noAutofit/>
              </a:bodyPr>
              <a:p>
                <a:pPr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>
                    <a:solidFill>
                      <a:srgbClr val="000000"/>
                    </a:solidFill>
                    <a:latin typeface="YOzFontNP04"/>
                    <a:ea typeface="YOzFontNP04"/>
                  </a:rPr>
                  <a:t>そうですか。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  <a:p>
                <a:pPr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  <a:p>
                <a:pPr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 u="sng">
                    <a:solidFill>
                      <a:srgbClr val="ff0000"/>
                    </a:solidFill>
                    <a:uFillTx/>
                    <a:latin typeface="YOzFontNP04"/>
                    <a:ea typeface="YOzFontNP04"/>
                  </a:rPr>
                  <a:t>ざんねんです。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524480" y="600120"/>
            <a:ext cx="144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938840" y="311040"/>
            <a:ext cx="5138640" cy="2381400"/>
            <a:chOff x="4938840" y="311040"/>
            <a:chExt cx="5138640" cy="2381400"/>
          </a:xfrm>
        </p:grpSpPr>
        <p:sp>
          <p:nvSpPr>
            <p:cNvPr id="228" name=""/>
            <p:cNvSpPr/>
            <p:nvPr/>
          </p:nvSpPr>
          <p:spPr>
            <a:xfrm>
              <a:off x="4938840" y="311040"/>
              <a:ext cx="5138640" cy="2381400"/>
            </a:xfrm>
            <a:prstGeom prst="roundRect">
              <a:avLst>
                <a:gd name="adj" fmla="val 7523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19640" y="534960"/>
              <a:ext cx="4624560" cy="2097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またこんど、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おねがいしま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 flipV="1">
            <a:off x="2242800" y="2342880"/>
            <a:ext cx="1484280" cy="76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384720" y="25671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42960" y="260496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224840" y="3630600"/>
            <a:ext cx="215244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5120" y="115920"/>
            <a:ext cx="649764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698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600120" y="6922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2570040" y="3340080"/>
            <a:ext cx="4370400" cy="386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93560" y="263376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159680" y="3660840"/>
            <a:ext cx="2152440" cy="6534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354480" y="614520"/>
            <a:ext cx="294156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5120" y="115920"/>
            <a:ext cx="649764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86280" y="220680"/>
            <a:ext cx="2370240" cy="3009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4698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>
            <a:off x="600120" y="692280"/>
            <a:ext cx="2057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sam.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2570040" y="3340080"/>
            <a:ext cx="4370400" cy="386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90600" y="23670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054920" y="3392640"/>
            <a:ext cx="215244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5120" y="115920"/>
            <a:ext cx="649764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698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600120" y="692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ばん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2570040" y="3340080"/>
            <a:ext cx="4370400" cy="386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5120" y="22320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129440" y="325908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84320" y="3397320"/>
            <a:ext cx="2941560" cy="2109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 flipV="1">
            <a:off x="2074680" y="5121000"/>
            <a:ext cx="1911240" cy="44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311040"/>
            <a:ext cx="5362560" cy="2522520"/>
            <a:chOff x="0" y="311040"/>
            <a:chExt cx="5362560" cy="2522520"/>
          </a:xfrm>
        </p:grpSpPr>
        <p:sp>
          <p:nvSpPr>
            <p:cNvPr id="263" name=""/>
            <p:cNvSpPr/>
            <p:nvPr/>
          </p:nvSpPr>
          <p:spPr>
            <a:xfrm>
              <a:off x="398520" y="311040"/>
              <a:ext cx="4964040" cy="2522520"/>
            </a:xfrm>
            <a:prstGeom prst="roundRect">
              <a:avLst>
                <a:gd name="adj" fmla="val 7106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19200"/>
              <a:ext cx="360" cy="363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8160" y="812880"/>
              <a:ext cx="4519800" cy="1825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デパート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きましょう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935440" y="2523960"/>
            <a:ext cx="6933960" cy="713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5880" y="870120"/>
            <a:ext cx="8988480" cy="621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30520" y="2354400"/>
            <a:ext cx="2773440" cy="1582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1806480" y="1611360"/>
            <a:ext cx="1793880" cy="1414440"/>
          </a:xfrm>
          <a:custGeom>
            <a:avLst/>
            <a:gdLst/>
            <a:ahLst/>
            <a:rect l="l" t="t" r="r" b="b"/>
            <a:pathLst>
              <a:path w="4981" h="3931">
                <a:moveTo>
                  <a:pt x="4980" y="393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504720"/>
            <a:ext cx="2352600" cy="11210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まご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2787480" y="47628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を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402240" y="434880"/>
            <a:ext cx="3581640" cy="1130400"/>
            <a:chOff x="6402240" y="434880"/>
            <a:chExt cx="3581640" cy="1130400"/>
          </a:xfrm>
        </p:grpSpPr>
        <p:sp>
          <p:nvSpPr>
            <p:cNvPr id="60" name=""/>
            <p:cNvSpPr/>
            <p:nvPr/>
          </p:nvSpPr>
          <p:spPr>
            <a:xfrm>
              <a:off x="6402240" y="434880"/>
              <a:ext cx="3581640" cy="113040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べま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73040" y="3333600"/>
            <a:ext cx="2206800" cy="3840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H="1">
            <a:off x="2893680" y="3868560"/>
            <a:ext cx="1152360" cy="46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120600"/>
            <a:ext cx="8877240" cy="2216160"/>
            <a:chOff x="0" y="120600"/>
            <a:chExt cx="8877240" cy="2216160"/>
          </a:xfrm>
        </p:grpSpPr>
        <p:sp>
          <p:nvSpPr>
            <p:cNvPr id="270" name=""/>
            <p:cNvSpPr/>
            <p:nvPr/>
          </p:nvSpPr>
          <p:spPr>
            <a:xfrm>
              <a:off x="738360" y="120600"/>
              <a:ext cx="8138880" cy="2216160"/>
            </a:xfrm>
            <a:prstGeom prst="roundRect">
              <a:avLst>
                <a:gd name="adj" fmla="val 807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247680"/>
              <a:ext cx="360" cy="363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95480" y="417600"/>
              <a:ext cx="7596000" cy="1825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で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べんきょうしましょう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46400" y="2419200"/>
            <a:ext cx="6934320" cy="7134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0" y="5176800"/>
            <a:ext cx="3335400" cy="21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3960" y="1325520"/>
            <a:ext cx="8821800" cy="600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11600" y="3292560"/>
            <a:ext cx="2773440" cy="1582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1806480" y="1611360"/>
            <a:ext cx="2129040" cy="1974960"/>
          </a:xfrm>
          <a:custGeom>
            <a:avLst/>
            <a:gdLst/>
            <a:ahLst/>
            <a:rect l="l" t="t" r="r" b="b"/>
            <a:pathLst>
              <a:path w="5915" h="5487">
                <a:moveTo>
                  <a:pt x="5914" y="548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252360" y="504720"/>
            <a:ext cx="2352600" cy="11210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2787480" y="47628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を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02240" y="434880"/>
            <a:ext cx="3581640" cy="1130400"/>
            <a:chOff x="6402240" y="434880"/>
            <a:chExt cx="3581640" cy="1130400"/>
          </a:xfrm>
        </p:grpSpPr>
        <p:sp>
          <p:nvSpPr>
            <p:cNvPr id="67" name=""/>
            <p:cNvSpPr/>
            <p:nvPr/>
          </p:nvSpPr>
          <p:spPr>
            <a:xfrm>
              <a:off x="6402240" y="434880"/>
              <a:ext cx="3581640" cy="113040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のみま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960" y="1325520"/>
            <a:ext cx="8821800" cy="600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11600" y="3292560"/>
            <a:ext cx="2773440" cy="1582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2563920" y="2227320"/>
            <a:ext cx="1373040" cy="1359000"/>
          </a:xfrm>
          <a:custGeom>
            <a:avLst/>
            <a:gdLst/>
            <a:ahLst/>
            <a:rect l="l" t="t" r="r" b="b"/>
            <a:pathLst>
              <a:path w="3814" h="3775">
                <a:moveTo>
                  <a:pt x="3813" y="3774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196920" y="1135080"/>
            <a:ext cx="2352600" cy="11206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2732040" y="110664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を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307200" y="1065240"/>
            <a:ext cx="3730680" cy="1130400"/>
            <a:chOff x="6307200" y="1065240"/>
            <a:chExt cx="3730680" cy="1130400"/>
          </a:xfrm>
        </p:grpSpPr>
        <p:sp>
          <p:nvSpPr>
            <p:cNvPr id="74" name=""/>
            <p:cNvSpPr/>
            <p:nvPr/>
          </p:nvSpPr>
          <p:spPr>
            <a:xfrm>
              <a:off x="6307200" y="1065240"/>
              <a:ext cx="3730680" cy="113040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のみました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27080" y="112680"/>
            <a:ext cx="3725640" cy="952560"/>
          </a:xfrm>
          <a:prstGeom prst="roundRect">
            <a:avLst>
              <a:gd name="adj" fmla="val 1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</a:rPr>
              <a:t>きのうのば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6400" y="993600"/>
            <a:ext cx="8883720" cy="6402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63720" y="2409840"/>
            <a:ext cx="2424240" cy="812880"/>
          </a:xfrm>
          <a:custGeom>
            <a:avLst/>
            <a:gdLst/>
            <a:ahLst/>
            <a:rect l="l" t="t" r="r" b="b"/>
            <a:pathLst>
              <a:path w="6733" h="2257">
                <a:moveTo>
                  <a:pt x="6732" y="225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231920"/>
            <a:ext cx="2352600" cy="11206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何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に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2787480" y="120492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129360" y="1065240"/>
            <a:ext cx="3855960" cy="1228680"/>
            <a:chOff x="6129360" y="1065240"/>
            <a:chExt cx="3855960" cy="1228680"/>
          </a:xfrm>
        </p:grpSpPr>
        <p:sp>
          <p:nvSpPr>
            <p:cNvPr id="81" name=""/>
            <p:cNvSpPr/>
            <p:nvPr/>
          </p:nvSpPr>
          <p:spPr>
            <a:xfrm>
              <a:off x="6129360" y="1065240"/>
              <a:ext cx="3855960" cy="1228680"/>
            </a:xfrm>
            <a:prstGeom prst="roundRect">
              <a:avLst>
                <a:gd name="adj" fmla="val 12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べますか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356000" y="2508120"/>
            <a:ext cx="1538280" cy="4184640"/>
            <a:chOff x="4356000" y="2508120"/>
            <a:chExt cx="1538280" cy="4184640"/>
          </a:xfrm>
        </p:grpSpPr>
        <p:sp>
          <p:nvSpPr>
            <p:cNvPr id="83" name=""/>
            <p:cNvSpPr/>
            <p:nvPr/>
          </p:nvSpPr>
          <p:spPr>
            <a:xfrm>
              <a:off x="4356000" y="2508120"/>
              <a:ext cx="1454400" cy="137016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0240" y="5322960"/>
              <a:ext cx="1454040" cy="1369800"/>
            </a:xfrm>
            <a:prstGeom prst="ellips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06400" y="993600"/>
            <a:ext cx="8883720" cy="640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63720" y="2409840"/>
            <a:ext cx="2424240" cy="812880"/>
          </a:xfrm>
          <a:custGeom>
            <a:avLst/>
            <a:gdLst/>
            <a:ahLst/>
            <a:rect l="l" t="t" r="r" b="b"/>
            <a:pathLst>
              <a:path w="6733" h="2257">
                <a:moveTo>
                  <a:pt x="6732" y="2256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307800" y="1274760"/>
            <a:ext cx="3697560" cy="11206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何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(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に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)   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2787480" y="1204920"/>
            <a:ext cx="1135080" cy="1190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11800" y="1179360"/>
            <a:ext cx="3772080" cy="1114560"/>
            <a:chOff x="6211800" y="1179360"/>
            <a:chExt cx="3772080" cy="1114560"/>
          </a:xfrm>
        </p:grpSpPr>
        <p:sp>
          <p:nvSpPr>
            <p:cNvPr id="90" name=""/>
            <p:cNvSpPr/>
            <p:nvPr/>
          </p:nvSpPr>
          <p:spPr>
            <a:xfrm>
              <a:off x="6211800" y="1179360"/>
              <a:ext cx="3772080" cy="1114560"/>
            </a:xfrm>
            <a:prstGeom prst="roundRect">
              <a:avLst>
                <a:gd name="adj" fmla="val 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べません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356000" y="2689200"/>
            <a:ext cx="1765440" cy="135900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YOzFontNP04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4425840" y="5224320"/>
            <a:ext cx="1765440" cy="1359000"/>
          </a:xfrm>
          <a:prstGeom prst="roundRect">
            <a:avLst>
              <a:gd name="adj" fmla="val 11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YOzFontNP04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60640"/>
            <a:ext cx="10433160" cy="3699000"/>
          </a:xfrm>
          <a:prstGeom prst="roundRect">
            <a:avLst>
              <a:gd name="adj" fmla="val 42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59280"/>
            <a:ext cx="10455120" cy="220680"/>
          </a:xfrm>
          <a:prstGeom prst="roundRect">
            <a:avLst>
              <a:gd name="adj" fmla="val 7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70200" y="171360"/>
            <a:ext cx="5935680" cy="7240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1880000">
            <a:off x="1591920" y="2855520"/>
            <a:ext cx="244440" cy="4784760"/>
          </a:xfrm>
          <a:custGeom>
            <a:avLst/>
            <a:gdLst>
              <a:gd name="textAreaLeft" fmla="*/ 360 w 244440"/>
              <a:gd name="textAreaRight" fmla="*/ 244080 w 244440"/>
              <a:gd name="textAreaTop" fmla="*/ 360 h 4784760"/>
              <a:gd name="textAreaBottom" fmla="*/ 4784400 h 4784760"/>
            </a:gdLst>
            <a:ahLst/>
            <a:rect l="textAreaLeft" t="textAreaTop" r="textAreaRight" b="textAreaBottom"/>
            <a:pathLst>
              <a:path w="21600" h="422216">
                <a:moveTo>
                  <a:pt x="140" y="0"/>
                </a:moveTo>
                <a:arcTo wR="140" hR="140" stAng="16200000" swAng="-5400000"/>
                <a:lnTo>
                  <a:pt x="0" y="422076"/>
                </a:lnTo>
                <a:arcTo wR="140" hR="140" stAng="10800000" swAng="-5400000"/>
                <a:lnTo>
                  <a:pt x="21460" y="422216"/>
                </a:lnTo>
                <a:arcTo wR="140" hR="140" stAng="5400000" swAng="-5400000"/>
                <a:lnTo>
                  <a:pt x="21600" y="140"/>
                </a:lnTo>
                <a:arcTo wR="140" hR="14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60640"/>
            <a:ext cx="10433160" cy="3699000"/>
          </a:xfrm>
          <a:prstGeom prst="roundRect">
            <a:avLst>
              <a:gd name="adj" fmla="val 42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4720" y="0"/>
            <a:ext cx="4492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1:45:57Z</dcterms:created>
  <dc:creator/>
  <dc:description/>
  <dc:language>en-US</dc:language>
  <cp:lastModifiedBy/>
  <dcterms:modified xsi:type="dcterms:W3CDTF">2016-05-24T19:16:40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