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0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8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0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0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0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0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0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1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1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1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8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8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8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8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40464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fr-FR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28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402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78560"/>
            <a:ext cx="1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00360" y="4686480"/>
            <a:ext cx="5146560" cy="16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ています  （しゅうかん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ながら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し、〜し、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76400" y="1697040"/>
            <a:ext cx="5638680" cy="16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× 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ごはんを たべ</a:t>
            </a:r>
            <a:r>
              <a:rPr b="0" lang="ja-JP" sz="4000" spc="-1" strike="noStrike">
                <a:solidFill>
                  <a:srgbClr val="ff0000"/>
                </a:solidFill>
                <a:latin typeface="Times New Roman"/>
                <a:ea typeface="YOzFontNP04"/>
              </a:rPr>
              <a:t>なが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	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おさけを のみ</a:t>
            </a:r>
            <a:r>
              <a:rPr b="0" lang="ja-JP" sz="4000" spc="-1" strike="noStrike">
                <a:solidFill>
                  <a:srgbClr val="ff0000"/>
                </a:solidFill>
                <a:latin typeface="Times New Roman"/>
                <a:ea typeface="YOzFontNP04"/>
              </a:rPr>
              <a:t>なが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	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テレビを みま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32440" y="1643040"/>
            <a:ext cx="663840" cy="1628640"/>
          </a:xfrm>
          <a:custGeom>
            <a:avLst/>
            <a:gdLst/>
            <a:ahLst/>
            <a:rect l="l" t="t" r="r" b="b"/>
            <a:pathLst>
              <a:path w="1842" h="4526">
                <a:moveTo>
                  <a:pt x="0" y="0"/>
                </a:moveTo>
                <a:cubicBezTo>
                  <a:pt x="1841" y="2646"/>
                  <a:pt x="230" y="4525"/>
                  <a:pt x="230" y="45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34160" y="2498760"/>
            <a:ext cx="15336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ながら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×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90440" y="925560"/>
            <a:ext cx="77994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× 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たち</a:t>
            </a:r>
            <a:r>
              <a:rPr b="0" lang="ja-JP" sz="4000" spc="-1" strike="noStrike">
                <a:solidFill>
                  <a:srgbClr val="ff0000"/>
                </a:solidFill>
                <a:latin typeface="Times New Roman"/>
                <a:ea typeface="YOzFontNP04"/>
              </a:rPr>
              <a:t>ながら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 うたを うたいま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38560" y="1960560"/>
            <a:ext cx="1800" cy="23464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1160" y="4459320"/>
            <a:ext cx="8364600" cy="1325520"/>
          </a:xfrm>
          <a:prstGeom prst="roundRect">
            <a:avLst>
              <a:gd name="adj" fmla="val 1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43080" y="4859280"/>
            <a:ext cx="76849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464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○ </a:t>
            </a:r>
            <a:r>
              <a:rPr b="0" lang="ja-JP" sz="4400" spc="-1" strike="noStrike">
                <a:solidFill>
                  <a:srgbClr val="ff0000"/>
                </a:solidFill>
                <a:latin typeface="Times New Roman"/>
                <a:ea typeface="YOzFontNP04"/>
              </a:rPr>
              <a:t>たって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 うたを うたいま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84200" y="1008000"/>
            <a:ext cx="8396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×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わり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ながら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ごはんを たべま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38560" y="1960560"/>
            <a:ext cx="1800" cy="23464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1160" y="4459320"/>
            <a:ext cx="8364600" cy="1325520"/>
          </a:xfrm>
          <a:prstGeom prst="roundRect">
            <a:avLst>
              <a:gd name="adj" fmla="val 1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3600" y="4803840"/>
            <a:ext cx="82393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○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すわって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ごはんを たべま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80960" y="414360"/>
            <a:ext cx="2820960" cy="4102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994360" y="235080"/>
            <a:ext cx="1795680" cy="4368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3120" y="3478320"/>
            <a:ext cx="4044960" cy="799920"/>
          </a:xfrm>
          <a:prstGeom prst="roundRect">
            <a:avLst>
              <a:gd name="adj" fmla="val 194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73640" y="3436920"/>
            <a:ext cx="4086360" cy="787320"/>
          </a:xfrm>
          <a:prstGeom prst="roundRect">
            <a:avLst>
              <a:gd name="adj" fmla="val 19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9800" y="3657600"/>
            <a:ext cx="3386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24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ギターが ひけ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7480" y="3575160"/>
            <a:ext cx="3781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24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うたが じょうずで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360" y="5176800"/>
            <a:ext cx="9166320" cy="2181240"/>
          </a:xfrm>
          <a:prstGeom prst="roundRect">
            <a:avLst>
              <a:gd name="adj" fmla="val 6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880" y="5342040"/>
            <a:ext cx="355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きょうこさん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7040" y="5397480"/>
            <a:ext cx="5186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ギター</a:t>
            </a:r>
            <a:r>
              <a:rPr b="0" lang="ja-JP" sz="4000" spc="-1" strike="noStrike">
                <a:solidFill>
                  <a:srgbClr val="800000"/>
                </a:solidFill>
                <a:latin typeface="Times New Roman"/>
                <a:ea typeface="YOzFontNP04"/>
              </a:rPr>
              <a:t>も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 ひける</a:t>
            </a:r>
            <a:r>
              <a:rPr b="0" lang="ja-JP" sz="4000" spc="-1" strike="noStrike">
                <a:solidFill>
                  <a:srgbClr val="ff0000"/>
                </a:solidFill>
                <a:latin typeface="Times New Roman"/>
                <a:ea typeface="YOzFontNP04"/>
              </a:rPr>
              <a:t>し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うた</a:t>
            </a:r>
            <a:r>
              <a:rPr b="0" lang="ja-JP" sz="4000" spc="-1" strike="noStrike">
                <a:solidFill>
                  <a:srgbClr val="800000"/>
                </a:solidFill>
                <a:latin typeface="Times New Roman"/>
                <a:ea typeface="YOzFontNP04"/>
              </a:rPr>
              <a:t>も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 じょうず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394320" y="290520"/>
            <a:ext cx="3040200" cy="4386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0960" y="414360"/>
            <a:ext cx="2820960" cy="4102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408560" y="331920"/>
            <a:ext cx="1704960" cy="4147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69800" y="4334040"/>
            <a:ext cx="8958240" cy="525240"/>
          </a:xfrm>
          <a:prstGeom prst="roundRect">
            <a:avLst>
              <a:gd name="adj" fmla="val 301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1520" y="4968720"/>
            <a:ext cx="9415440" cy="2389320"/>
          </a:xfrm>
          <a:prstGeom prst="roundRect">
            <a:avLst>
              <a:gd name="adj" fmla="val 6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9800" y="5259240"/>
            <a:ext cx="35560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きょうこさん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89520" y="5148360"/>
            <a:ext cx="6021360" cy="21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ギター</a:t>
            </a:r>
            <a:r>
              <a:rPr b="0" lang="ja-JP" sz="4000" spc="-1" strike="noStrike">
                <a:solidFill>
                  <a:srgbClr val="800000"/>
                </a:solidFill>
                <a:latin typeface="Times New Roman"/>
                <a:ea typeface="YOzFontNP04"/>
              </a:rPr>
              <a:t>も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 ひける</a:t>
            </a:r>
            <a:r>
              <a:rPr b="0" lang="ja-JP" sz="4000" spc="-1" strike="noStrike">
                <a:solidFill>
                  <a:srgbClr val="ff0000"/>
                </a:solidFill>
                <a:latin typeface="Times New Roman"/>
                <a:ea typeface="YOzFontNP04"/>
              </a:rPr>
              <a:t>し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うた</a:t>
            </a:r>
            <a:r>
              <a:rPr b="0" lang="ja-JP" sz="4000" spc="-1" strike="noStrike">
                <a:solidFill>
                  <a:srgbClr val="800000"/>
                </a:solidFill>
                <a:latin typeface="Times New Roman"/>
                <a:ea typeface="YOzFontNP04"/>
              </a:rPr>
              <a:t>も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 じょうずだし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それに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フラメンコ</a:t>
            </a:r>
            <a:r>
              <a:rPr b="0" lang="ja-JP" sz="4000" spc="-1" strike="noStrike">
                <a:solidFill>
                  <a:srgbClr val="800000"/>
                </a:solidFill>
                <a:latin typeface="Times New Roman"/>
                <a:ea typeface="YOzFontNP04"/>
              </a:rPr>
              <a:t>も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おどれま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9440" y="4416480"/>
            <a:ext cx="8451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ギターがひけます・うたがじょうずです・フラメンコが おどれま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5157720"/>
            <a:ext cx="9166320" cy="2181240"/>
          </a:xfrm>
          <a:prstGeom prst="roundRect">
            <a:avLst>
              <a:gd name="adj" fmla="val 6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1880" y="5342040"/>
            <a:ext cx="355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きょうこさん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320" y="5950080"/>
            <a:ext cx="858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やさしい</a:t>
            </a:r>
            <a:r>
              <a:rPr b="0" lang="ja-JP" sz="4000" spc="-1" strike="noStrike">
                <a:solidFill>
                  <a:srgbClr val="ff0000"/>
                </a:solidFill>
                <a:latin typeface="Times New Roman"/>
                <a:ea typeface="YOzFontNP04"/>
              </a:rPr>
              <a:t>し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、かわいい</a:t>
            </a:r>
            <a:r>
              <a:rPr b="0" lang="ja-JP" sz="4000" spc="-1" strike="noStrike">
                <a:solidFill>
                  <a:srgbClr val="ff0000"/>
                </a:solidFill>
                <a:latin typeface="Times New Roman"/>
                <a:ea typeface="YOzFontNP04"/>
              </a:rPr>
              <a:t>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おとこの ひとに にんきが ありま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98600" y="233280"/>
            <a:ext cx="4167000" cy="3092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9800" y="4735440"/>
            <a:ext cx="2264040" cy="18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03800" y="3436920"/>
            <a:ext cx="4030560" cy="717480"/>
          </a:xfrm>
          <a:prstGeom prst="roundRect">
            <a:avLst>
              <a:gd name="adj" fmla="val 21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3630600"/>
            <a:ext cx="1625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24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かわい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89280" y="4307040"/>
            <a:ext cx="5811840" cy="1035000"/>
          </a:xfrm>
          <a:prstGeom prst="roundRect">
            <a:avLst>
              <a:gd name="adj" fmla="val 153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9960" y="3313080"/>
            <a:ext cx="4113360" cy="746280"/>
          </a:xfrm>
          <a:prstGeom prst="roundRect">
            <a:avLst>
              <a:gd name="adj" fmla="val 20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70120" y="3546360"/>
            <a:ext cx="16254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24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やさし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1680" y="4403880"/>
            <a:ext cx="4226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72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おとこの ひと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にんきが ありま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24520" y="552600"/>
            <a:ext cx="2170080" cy="24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5157720"/>
            <a:ext cx="9166320" cy="2181240"/>
          </a:xfrm>
          <a:prstGeom prst="roundRect">
            <a:avLst>
              <a:gd name="adj" fmla="val 6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8320" y="5591160"/>
            <a:ext cx="795816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きのう たくさん べんきょうした</a:t>
            </a:r>
            <a:r>
              <a:rPr b="0" lang="ja-JP" sz="4000" spc="-1" strike="noStrike">
                <a:solidFill>
                  <a:srgbClr val="ff0000"/>
                </a:solidFill>
                <a:latin typeface="Times New Roman"/>
                <a:ea typeface="YOzFontNP04"/>
              </a:rPr>
              <a:t>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つかれている</a:t>
            </a:r>
            <a:r>
              <a:rPr b="0" lang="ja-JP" sz="4000" spc="-1" strike="noStrike">
                <a:solidFill>
                  <a:srgbClr val="ff0000"/>
                </a:solidFill>
                <a:latin typeface="Times New Roman"/>
                <a:ea typeface="YOzFontNP04"/>
              </a:rPr>
              <a:t>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きょうは ゆっくり やすみま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9800" y="4735440"/>
            <a:ext cx="2264040" cy="18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33720" y="3119400"/>
            <a:ext cx="3216240" cy="1117800"/>
          </a:xfrm>
          <a:prstGeom prst="roundRect">
            <a:avLst>
              <a:gd name="adj" fmla="val 13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89280" y="4307040"/>
            <a:ext cx="4624200" cy="1035000"/>
          </a:xfrm>
          <a:prstGeom prst="roundRect">
            <a:avLst>
              <a:gd name="adj" fmla="val 153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3120" y="3092400"/>
            <a:ext cx="3478320" cy="1117800"/>
          </a:xfrm>
          <a:prstGeom prst="roundRect">
            <a:avLst>
              <a:gd name="adj" fmla="val 13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5200" y="3354480"/>
            <a:ext cx="2979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24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きのう たくさ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1680" y="4403880"/>
            <a:ext cx="19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72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きょうは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14440" y="469800"/>
            <a:ext cx="3720960" cy="2613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57880" y="-96840"/>
            <a:ext cx="2530440" cy="3282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481800" y="3921120"/>
            <a:ext cx="3363840" cy="1549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738840" y="3525840"/>
            <a:ext cx="3148200" cy="144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9360" y="3368520"/>
            <a:ext cx="2303280" cy="6996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835600" y="2995560"/>
            <a:ext cx="4227480" cy="6831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5760" y="925560"/>
            <a:ext cx="7869240" cy="1628640"/>
          </a:xfrm>
          <a:prstGeom prst="wedgeRoundRectCallout">
            <a:avLst>
              <a:gd name="adj1" fmla="val -30888"/>
              <a:gd name="adj2" fmla="val 12830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ロランさん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きょうとの りょこう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どうでした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2554200" y="-552600"/>
            <a:ext cx="9994680" cy="4832640"/>
          </a:xfrm>
          <a:prstGeom prst="cloudCallout">
            <a:avLst>
              <a:gd name="adj1" fmla="val 54828"/>
              <a:gd name="adj2" fmla="val 17430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2880" y="358920"/>
            <a:ext cx="2197440" cy="3267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906640" y="635040"/>
            <a:ext cx="2524320" cy="2792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927760" y="2871720"/>
            <a:ext cx="4151160" cy="6664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49360" y="3368520"/>
            <a:ext cx="2303280" cy="6996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7520" y="5757840"/>
            <a:ext cx="7869240" cy="1628640"/>
          </a:xfrm>
          <a:prstGeom prst="wedgeRoundRectCallout">
            <a:avLst>
              <a:gd name="adj1" fmla="val 41925"/>
              <a:gd name="adj2" fmla="val -16186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20600" y="5797440"/>
            <a:ext cx="626436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めも ふった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し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なかも いたくなった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し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いへんでし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76280" y="347760"/>
            <a:ext cx="3049560" cy="2342880"/>
          </a:xfrm>
          <a:prstGeom prst="ellipse">
            <a:avLst/>
          </a:prstGeom>
          <a:noFill/>
          <a:ln w="72000">
            <a:solidFill>
              <a:srgbClr val="ff0000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16520" y="3527280"/>
            <a:ext cx="4286160" cy="3049560"/>
          </a:xfrm>
          <a:prstGeom prst="ellipse">
            <a:avLst/>
          </a:prstGeom>
          <a:noFill/>
          <a:ln w="72000">
            <a:solidFill>
              <a:srgbClr val="ff0000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120" y="2548080"/>
            <a:ext cx="1262160" cy="12618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728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YOzFontNP04"/>
                <a:ea typeface="YOzFontNP04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26400" y="3102120"/>
            <a:ext cx="1262160" cy="12618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728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YOzFontNP04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54160" y="6276960"/>
            <a:ext cx="5673960" cy="1068480"/>
          </a:xfrm>
          <a:prstGeom prst="roundRect">
            <a:avLst>
              <a:gd name="adj" fmla="val 14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672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タクシー</a:t>
            </a:r>
            <a:r>
              <a:rPr b="0" lang="ja-JP" sz="3600" spc="-1" strike="noStrike">
                <a:solidFill>
                  <a:srgbClr val="800000"/>
                </a:solidFill>
                <a:latin typeface="Times New Roman"/>
                <a:ea typeface="YOzFontNP04"/>
              </a:rPr>
              <a:t>で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 かえりま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9520" y="2952720"/>
            <a:ext cx="5602320" cy="3205080"/>
          </a:xfrm>
          <a:prstGeom prst="roundRect">
            <a:avLst>
              <a:gd name="adj" fmla="val 4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5920" y="3645000"/>
            <a:ext cx="551628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4640" bIns="0" anchor="t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あめ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Times New Roman"/>
                <a:ea typeface="YOzFontNP04"/>
              </a:rPr>
              <a:t>も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ふっている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Times New Roman"/>
                <a:ea typeface="YOzFontNP04"/>
              </a:rPr>
              <a:t>し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にもつ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Times New Roman"/>
                <a:ea typeface="YOzFontNP04"/>
              </a:rPr>
              <a:t>も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おおい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Times New Roman"/>
                <a:ea typeface="YOzFontNP04"/>
              </a:rPr>
              <a:t>し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flipV="1">
            <a:off x="6032520" y="1351080"/>
            <a:ext cx="565200" cy="32083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6240" y="334800"/>
            <a:ext cx="2663640" cy="109404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どよう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97280" y="527040"/>
            <a:ext cx="6037200" cy="836640"/>
          </a:xfrm>
          <a:prstGeom prst="roundRect">
            <a:avLst>
              <a:gd name="adj" fmla="val 19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31800" y="3786120"/>
            <a:ext cx="2678400" cy="4684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86520" y="1725480"/>
            <a:ext cx="3232080" cy="3971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776840" y="6087960"/>
            <a:ext cx="5218200" cy="107640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どようび、いつも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91040" y="4494240"/>
            <a:ext cx="4246560" cy="16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ゅうか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78280" y="662040"/>
            <a:ext cx="5184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テニス</a:t>
            </a:r>
            <a:r>
              <a:rPr b="0" lang="ja-JP" sz="4000" spc="-1" strike="noStrike">
                <a:solidFill>
                  <a:srgbClr val="800000"/>
                </a:solidFill>
                <a:latin typeface="Times New Roman"/>
                <a:ea typeface="YOzFontNP04"/>
              </a:rPr>
              <a:t>を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 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Times New Roman"/>
                <a:ea typeface="YOzFontNP04"/>
              </a:rPr>
              <a:t>しています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954160" y="6276960"/>
            <a:ext cx="5673960" cy="1068480"/>
          </a:xfrm>
          <a:prstGeom prst="roundRect">
            <a:avLst>
              <a:gd name="adj" fmla="val 14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672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にほんごを はじめまし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9520" y="2952720"/>
            <a:ext cx="8958240" cy="2997360"/>
          </a:xfrm>
          <a:prstGeom prst="roundRect">
            <a:avLst>
              <a:gd name="adj" fmla="val 5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3120" y="870120"/>
            <a:ext cx="9390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どうして にほんごを はじめたんです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5760" y="1905120"/>
            <a:ext cx="52322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1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にほんのえいがが すきですか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2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にほんじんの ともだちがいますか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7360" y="3700440"/>
            <a:ext cx="8751960" cy="17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4640" bIns="0" anchor="t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にほんのえいがも すきだ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Times New Roman"/>
                <a:ea typeface="YOzFontNP04"/>
              </a:rPr>
              <a:t>し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にほんじんの ともだちも いる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Times New Roman"/>
                <a:ea typeface="YOzFontNP04"/>
              </a:rPr>
              <a:t>し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09520" y="2952720"/>
            <a:ext cx="9871200" cy="2941560"/>
          </a:xfrm>
          <a:prstGeom prst="roundRect">
            <a:avLst>
              <a:gd name="adj" fmla="val 5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3120" y="870120"/>
            <a:ext cx="9390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どうして にほんごを はじめたんです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5760" y="1905120"/>
            <a:ext cx="52322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1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にほんのえいがが すきですか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2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にほんじんの ともだちがいますか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11800" y="5149800"/>
            <a:ext cx="4064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（いますから。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5760" y="3257640"/>
            <a:ext cx="94802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にほんのえいがも すきだ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Times New Roman"/>
                <a:ea typeface="YOzFontNP04"/>
              </a:rPr>
              <a:t>し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にほんじんの ともだちも いる</a:t>
            </a:r>
            <a:r>
              <a:rPr b="0" lang="ja-JP" sz="4000" spc="-1" strike="noStrike">
                <a:solidFill>
                  <a:srgbClr val="ff0000"/>
                </a:solidFill>
                <a:latin typeface="Times New Roman"/>
                <a:ea typeface="YOzFontNP04"/>
              </a:rPr>
              <a:t>からです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3120" y="870120"/>
            <a:ext cx="893628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24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）どうして しゅくだいを しなかったんです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）どうして このシャツを かうんです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）どうして いつも としょかん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べんきょうするんです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4)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どうして あたらしい パソコン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かわないんです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62080" y="758880"/>
            <a:ext cx="9818640" cy="6418080"/>
          </a:xfrm>
          <a:prstGeom prst="roundRect">
            <a:avLst>
              <a:gd name="adj" fmla="val 2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6800" y="1158840"/>
            <a:ext cx="846468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Times New Roman"/>
                <a:ea typeface="YOzFontNP04"/>
              </a:rPr>
              <a:t>からだの ちょうしも わるかった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し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Times New Roman"/>
                <a:ea typeface="YOzFontNP04"/>
              </a:rPr>
              <a:t>つかれていた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し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しゅくだいが できませんでし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8200" y="4030560"/>
            <a:ext cx="94806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Times New Roman"/>
                <a:ea typeface="YOzFontNP04"/>
              </a:rPr>
              <a:t>からだの ちょうしも わるかったです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し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Times New Roman"/>
                <a:ea typeface="YOzFontNP04"/>
              </a:rPr>
              <a:t>つかれていました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し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しゅくだいが できませんでし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80000" y="5894280"/>
            <a:ext cx="5106960" cy="690840"/>
          </a:xfrm>
          <a:prstGeom prst="roundRect">
            <a:avLst>
              <a:gd name="adj" fmla="val 22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240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すこし ていねい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82440"/>
            <a:ext cx="9636120" cy="843120"/>
          </a:xfrm>
          <a:prstGeom prst="roundRect">
            <a:avLst>
              <a:gd name="adj" fmla="val 185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240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〜し、〜し ← かきことばで あまり つかわな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38480" y="166680"/>
            <a:ext cx="6305400" cy="7020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2600" y="5996160"/>
            <a:ext cx="9104400" cy="1042920"/>
          </a:xfrm>
          <a:prstGeom prst="roundRect">
            <a:avLst>
              <a:gd name="adj" fmla="val 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62480" y="6226200"/>
            <a:ext cx="43480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t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おき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Times New Roman"/>
                <a:ea typeface="YOzFontNP04"/>
              </a:rPr>
              <a:t>ています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8720" y="6184800"/>
            <a:ext cx="33004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まいあさ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7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じ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93920" y="2471760"/>
            <a:ext cx="8366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464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7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2600" y="5996160"/>
            <a:ext cx="9104400" cy="1042920"/>
          </a:xfrm>
          <a:prstGeom prst="roundRect">
            <a:avLst>
              <a:gd name="adj" fmla="val 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8200" y="6184800"/>
            <a:ext cx="6611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がくにかよっ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ています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97600" y="919080"/>
            <a:ext cx="4492440" cy="3141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52640" y="2089080"/>
            <a:ext cx="3284280" cy="18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38240" y="468360"/>
            <a:ext cx="137628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8040" y="1725480"/>
            <a:ext cx="8296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まなとき、なにを し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ています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724200" y="2376360"/>
            <a:ext cx="2955960" cy="569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65040" y="295200"/>
            <a:ext cx="9159840" cy="1360440"/>
          </a:xfrm>
          <a:prstGeom prst="roundRect">
            <a:avLst>
              <a:gd name="adj" fmla="val 1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0640" y="484200"/>
            <a:ext cx="83930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んがくを きき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ながら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ジョギングを します（しています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65040" y="295200"/>
            <a:ext cx="9159840" cy="1360440"/>
          </a:xfrm>
          <a:prstGeom prst="roundRect">
            <a:avLst>
              <a:gd name="adj" fmla="val 1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0640" y="484200"/>
            <a:ext cx="83930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ギターを ひき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ながら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うた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たいます（うたっています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629080" y="1806480"/>
            <a:ext cx="5222520" cy="59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5040" y="295200"/>
            <a:ext cx="9159840" cy="1360440"/>
          </a:xfrm>
          <a:prstGeom prst="roundRect">
            <a:avLst>
              <a:gd name="adj" fmla="val 1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0640" y="484200"/>
            <a:ext cx="83930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テレビを み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なが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ごはんを たべます（たべています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2230560"/>
            <a:ext cx="10078920" cy="50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484960" y="4135320"/>
            <a:ext cx="4492440" cy="3141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751120" y="5499000"/>
            <a:ext cx="3284640" cy="18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616040" y="3600360"/>
            <a:ext cx="1376280" cy="364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225520" y="358920"/>
            <a:ext cx="2205360" cy="2806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44520" y="785880"/>
            <a:ext cx="8762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よ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760" y="4729320"/>
            <a:ext cx="10159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ひ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0280" y="2406600"/>
            <a:ext cx="9159840" cy="1360440"/>
          </a:xfrm>
          <a:prstGeom prst="roundRect">
            <a:avLst>
              <a:gd name="adj" fmla="val 1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7320" y="2595600"/>
            <a:ext cx="83930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たらき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なが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がくに かよっていま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1T20:16:53Z</dcterms:created>
  <dc:creator/>
  <dc:description/>
  <dc:language>en-US</dc:language>
  <cp:lastModifiedBy/>
  <dcterms:modified xsi:type="dcterms:W3CDTF">2016-05-24T19:28:04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