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6912000" y="7056360"/>
            <a:ext cx="307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es-MX" sz="2200" spc="-1" strike="noStrike">
                <a:solidFill>
                  <a:srgbClr val="000000"/>
                </a:solidFill>
                <a:latin typeface="Bitstream Vera Serif"/>
              </a:rPr>
              <a:t>://j-learning.com/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36036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2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7964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000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389240" y="4568760"/>
            <a:ext cx="603540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れ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れ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 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+ N / 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の 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+ N / 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 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+ N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N 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の 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N / 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れの </a:t>
            </a:r>
            <a:r>
              <a:rPr b="0" lang="fr-FR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400480" y="-3780000"/>
            <a:ext cx="14135400" cy="5303880"/>
          </a:xfrm>
          <a:prstGeom prst="ellipse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2" name=""/>
          <p:cNvSpPr/>
          <p:nvPr/>
        </p:nvSpPr>
        <p:spPr>
          <a:xfrm>
            <a:off x="4707000" y="1257480"/>
            <a:ext cx="6705360" cy="10082160"/>
          </a:xfrm>
          <a:prstGeom prst="ellipse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-5143680" y="1201680"/>
            <a:ext cx="9830160" cy="1013940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89600" y="1467000"/>
            <a:ext cx="2401920" cy="755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98440" y="496800"/>
            <a:ext cx="667728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6" name=""/>
          <p:cNvSpPr/>
          <p:nvPr/>
        </p:nvSpPr>
        <p:spPr>
          <a:xfrm>
            <a:off x="1301760" y="611280"/>
            <a:ext cx="64771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25320" y="2835360"/>
            <a:ext cx="2914920" cy="6534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6840000">
            <a:off x="6743520" y="3549600"/>
            <a:ext cx="1747800" cy="201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892840" y="2567160"/>
            <a:ext cx="1371600" cy="13716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900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80880" y="438120"/>
            <a:ext cx="85752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2400480" y="-3780000"/>
            <a:ext cx="14135400" cy="5303880"/>
          </a:xfrm>
          <a:prstGeom prst="ellipse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4707000" y="1257480"/>
            <a:ext cx="6705360" cy="10082160"/>
          </a:xfrm>
          <a:prstGeom prst="ellipse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3" name=""/>
          <p:cNvSpPr/>
          <p:nvPr/>
        </p:nvSpPr>
        <p:spPr>
          <a:xfrm>
            <a:off x="-5143680" y="1201680"/>
            <a:ext cx="9830160" cy="1013940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89600" y="1467000"/>
            <a:ext cx="2401920" cy="7559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719440" y="44604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2820960" y="560520"/>
            <a:ext cx="64771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ボールペン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25320" y="2835360"/>
            <a:ext cx="2914920" cy="653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rot="6840000">
            <a:off x="6743520" y="3549600"/>
            <a:ext cx="1747800" cy="20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943280" y="380880"/>
            <a:ext cx="87624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87800" y="-2697120"/>
            <a:ext cx="8766360" cy="5303880"/>
          </a:xfrm>
          <a:prstGeom prst="ellipse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014560"/>
            <a:ext cx="2457360" cy="7559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004840" y="2317680"/>
            <a:ext cx="3448080" cy="6600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821800" y="784080"/>
            <a:ext cx="952560" cy="628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51080" y="63036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5" name=""/>
          <p:cNvSpPr/>
          <p:nvPr/>
        </p:nvSpPr>
        <p:spPr>
          <a:xfrm>
            <a:off x="2101680" y="706320"/>
            <a:ext cx="6477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カセット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80880" y="438120"/>
            <a:ext cx="85752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00480" y="-3780000"/>
            <a:ext cx="14135400" cy="530388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4705200" y="1257480"/>
            <a:ext cx="6705720" cy="10082160"/>
          </a:xfrm>
          <a:prstGeom prst="ellipse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>
            <a:off x="-5143680" y="1200240"/>
            <a:ext cx="9830160" cy="1013940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8200" y="2825640"/>
            <a:ext cx="2210040" cy="6478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77000" y="2036880"/>
            <a:ext cx="2401920" cy="755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06760" y="348444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076480" y="299088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21320" y="363852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れ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991040" y="3143160"/>
            <a:ext cx="857160" cy="1028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25720" y="53352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れ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971800" y="9684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682720" y="485784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れ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190600" y="4457880"/>
            <a:ext cx="800280" cy="904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21320" y="521964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029200" y="4819680"/>
            <a:ext cx="800280" cy="904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3714840" y="0"/>
            <a:ext cx="79992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649840" y="17431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4840" y="533520"/>
            <a:ext cx="8388000" cy="1000080"/>
          </a:xfrm>
          <a:prstGeom prst="roundRect">
            <a:avLst>
              <a:gd name="adj" fmla="val 179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"/>
          <p:cNvSpPr/>
          <p:nvPr/>
        </p:nvSpPr>
        <p:spPr>
          <a:xfrm>
            <a:off x="577800" y="706320"/>
            <a:ext cx="81565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ざっし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91080" y="2647800"/>
            <a:ext cx="1689120" cy="21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49840" y="17431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74840" y="533520"/>
            <a:ext cx="9001080" cy="1000080"/>
          </a:xfrm>
          <a:prstGeom prst="roundRect">
            <a:avLst>
              <a:gd name="adj" fmla="val 179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577800" y="706320"/>
            <a:ext cx="9093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000" spc="-1" strike="noStrike">
                <a:solidFill>
                  <a:srgbClr val="0000ff"/>
                </a:solidFill>
                <a:latin typeface="YOzFontNP04"/>
                <a:ea typeface="YOzFontNP04"/>
              </a:rPr>
              <a:t>コンピューター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ざっし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91080" y="2647800"/>
            <a:ext cx="1689120" cy="211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390920" y="2550960"/>
            <a:ext cx="2001960" cy="581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3800" y="1211400"/>
            <a:ext cx="6999480" cy="1000080"/>
          </a:xfrm>
          <a:prstGeom prst="roundRect">
            <a:avLst>
              <a:gd name="adj" fmla="val 179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987480" y="1319040"/>
            <a:ext cx="7051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れ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ざっし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360" y="2513160"/>
            <a:ext cx="2914560" cy="6534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230960" y="1469880"/>
            <a:ext cx="2457720" cy="7560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640560" y="4003560"/>
            <a:ext cx="1398600" cy="1847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264360" y="4375080"/>
            <a:ext cx="1371600" cy="13716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900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15920" y="1109520"/>
            <a:ext cx="804960" cy="10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01680" y="533520"/>
            <a:ext cx="6999480" cy="1000080"/>
          </a:xfrm>
          <a:prstGeom prst="roundRect">
            <a:avLst>
              <a:gd name="adj" fmla="val 179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0" name=""/>
          <p:cNvSpPr/>
          <p:nvPr/>
        </p:nvSpPr>
        <p:spPr>
          <a:xfrm>
            <a:off x="1665360" y="641520"/>
            <a:ext cx="705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ff"/>
                </a:solidFill>
                <a:latin typeface="YOzFontNP04"/>
                <a:ea typeface="YOzFontNP04"/>
              </a:rPr>
              <a:t>くるま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ざっし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38360" y="2513160"/>
            <a:ext cx="2914560" cy="6534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230960" y="1469880"/>
            <a:ext cx="2457720" cy="756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640560" y="4003560"/>
            <a:ext cx="1398600" cy="1847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897600" y="322200"/>
            <a:ext cx="947880" cy="11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2800" y="19699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4840" y="59220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>
            <a:off x="577800" y="706320"/>
            <a:ext cx="61707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しんぶ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538440" y="2019240"/>
            <a:ext cx="228600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92800" y="19699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74840" y="592200"/>
            <a:ext cx="9178920" cy="990360"/>
          </a:xfrm>
          <a:prstGeom prst="roundRect">
            <a:avLst>
              <a:gd name="adj" fmla="val 18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577800" y="706320"/>
            <a:ext cx="8866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にほんご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んぶん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538440" y="2019240"/>
            <a:ext cx="228600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44600" y="517680"/>
            <a:ext cx="11479320" cy="10821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" name=""/>
          <p:cNvSpPr/>
          <p:nvPr/>
        </p:nvSpPr>
        <p:spPr>
          <a:xfrm>
            <a:off x="4843440" y="2567160"/>
            <a:ext cx="7104240" cy="79912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18360" y="2738520"/>
            <a:ext cx="2733480" cy="653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4840" y="59220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577800" y="706320"/>
            <a:ext cx="6477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えんぴつ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17580000">
            <a:off x="5896080" y="4376160"/>
            <a:ext cx="15238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2800" y="19699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74840" y="59220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577800" y="706320"/>
            <a:ext cx="61707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ほん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600880" y="2543040"/>
            <a:ext cx="80928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49840" y="17431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4840" y="533520"/>
            <a:ext cx="8388000" cy="1000080"/>
          </a:xfrm>
          <a:prstGeom prst="roundRect">
            <a:avLst>
              <a:gd name="adj" fmla="val 179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577800" y="706320"/>
            <a:ext cx="81565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ん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600880" y="2543040"/>
            <a:ext cx="809280" cy="1952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95960" y="3519360"/>
            <a:ext cx="1193760" cy="74304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2" name=""/>
          <p:cNvSpPr/>
          <p:nvPr/>
        </p:nvSpPr>
        <p:spPr>
          <a:xfrm>
            <a:off x="824040" y="3890880"/>
            <a:ext cx="490356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6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Bitstream Vera Serif"/>
              </a:rPr>
              <a:t>Laurent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649840" y="17431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4840" y="533520"/>
            <a:ext cx="8388000" cy="1000080"/>
          </a:xfrm>
          <a:prstGeom prst="roundRect">
            <a:avLst>
              <a:gd name="adj" fmla="val 179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5" name=""/>
          <p:cNvSpPr/>
          <p:nvPr/>
        </p:nvSpPr>
        <p:spPr>
          <a:xfrm>
            <a:off x="577800" y="706320"/>
            <a:ext cx="81565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600880" y="2543040"/>
            <a:ext cx="809280" cy="1952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295960" y="3519360"/>
            <a:ext cx="1193760" cy="74304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824040" y="3890880"/>
            <a:ext cx="490356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6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Bitstream Vera Serif"/>
              </a:rPr>
              <a:t>Laurent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649840" y="17431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74840" y="533520"/>
            <a:ext cx="8388000" cy="1000080"/>
          </a:xfrm>
          <a:prstGeom prst="roundRect">
            <a:avLst>
              <a:gd name="adj" fmla="val 179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1" name=""/>
          <p:cNvSpPr/>
          <p:nvPr/>
        </p:nvSpPr>
        <p:spPr>
          <a:xfrm>
            <a:off x="577800" y="706320"/>
            <a:ext cx="81565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ぴつ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30200" y="4875120"/>
            <a:ext cx="5865840" cy="866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 rot="19680000">
            <a:off x="4702320" y="3614400"/>
            <a:ext cx="2320920" cy="303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295960" y="3519360"/>
            <a:ext cx="1193760" cy="74304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7264440" y="4003560"/>
            <a:ext cx="2630520" cy="468360"/>
          </a:xfrm>
          <a:prstGeom prst="roundRect">
            <a:avLst>
              <a:gd name="adj" fmla="val 33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やまかわ きょう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649840" y="17431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4840" y="533520"/>
            <a:ext cx="8388000" cy="1000080"/>
          </a:xfrm>
          <a:prstGeom prst="roundRect">
            <a:avLst>
              <a:gd name="adj" fmla="val 179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"/>
          <p:cNvSpPr/>
          <p:nvPr/>
        </p:nvSpPr>
        <p:spPr>
          <a:xfrm>
            <a:off x="577800" y="706320"/>
            <a:ext cx="81565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30200" y="4875120"/>
            <a:ext cx="5865840" cy="866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 rot="19680000">
            <a:off x="4702320" y="3614400"/>
            <a:ext cx="2320920" cy="303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295960" y="3519360"/>
            <a:ext cx="1193760" cy="74304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>
            <a:off x="7264440" y="4003560"/>
            <a:ext cx="2630520" cy="468360"/>
          </a:xfrm>
          <a:prstGeom prst="roundRect">
            <a:avLst>
              <a:gd name="adj" fmla="val 33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やまかわ きょう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649840" y="17431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74840" y="533520"/>
            <a:ext cx="8388000" cy="1000080"/>
          </a:xfrm>
          <a:prstGeom prst="roundRect">
            <a:avLst>
              <a:gd name="adj" fmla="val 179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577800" y="706320"/>
            <a:ext cx="81565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だ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ぎで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 rot="7200000">
            <a:off x="5171760" y="3080880"/>
            <a:ext cx="1674720" cy="658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365640" y="3325680"/>
            <a:ext cx="590400" cy="992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152960" y="3422520"/>
            <a:ext cx="770040" cy="933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3765600" y="4327560"/>
            <a:ext cx="787320" cy="807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44840" y="2467080"/>
            <a:ext cx="1371600" cy="13716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900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649840" y="17431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4840" y="533520"/>
            <a:ext cx="8388000" cy="1000080"/>
          </a:xfrm>
          <a:prstGeom prst="roundRect">
            <a:avLst>
              <a:gd name="adj" fmla="val 179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3" name=""/>
          <p:cNvSpPr/>
          <p:nvPr/>
        </p:nvSpPr>
        <p:spPr>
          <a:xfrm>
            <a:off x="577800" y="706320"/>
            <a:ext cx="81565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ぴつ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30200" y="4875120"/>
            <a:ext cx="5865840" cy="866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 rot="19680000">
            <a:off x="4702320" y="3614400"/>
            <a:ext cx="2320920" cy="303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5960" y="3519360"/>
            <a:ext cx="1193760" cy="74304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7264440" y="4003560"/>
            <a:ext cx="2630520" cy="468360"/>
          </a:xfrm>
          <a:prstGeom prst="roundRect">
            <a:avLst>
              <a:gd name="adj" fmla="val 33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やまかわ きょう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649840" y="1743120"/>
            <a:ext cx="3417840" cy="7640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4840" y="533520"/>
            <a:ext cx="8388000" cy="1000080"/>
          </a:xfrm>
          <a:prstGeom prst="roundRect">
            <a:avLst>
              <a:gd name="adj" fmla="val 179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9480"/>
            <a:ext cx="81565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ぎ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だ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 rot="7200000">
            <a:off x="5171760" y="3080880"/>
            <a:ext cx="1674720" cy="658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365640" y="3325680"/>
            <a:ext cx="590400" cy="992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4152960" y="3422520"/>
            <a:ext cx="770040" cy="933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3765600" y="4327560"/>
            <a:ext cx="787320" cy="807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498840" y="2484360"/>
            <a:ext cx="1371600" cy="13716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900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44600" y="484200"/>
            <a:ext cx="11479320" cy="10821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7" name=""/>
          <p:cNvSpPr/>
          <p:nvPr/>
        </p:nvSpPr>
        <p:spPr>
          <a:xfrm>
            <a:off x="4843440" y="2567160"/>
            <a:ext cx="7104240" cy="79912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918480" y="2938320"/>
            <a:ext cx="2209680" cy="6478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199120" y="5359320"/>
            <a:ext cx="3035160" cy="98424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ぴつ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0" name=""/>
          <p:cNvSpPr/>
          <p:nvPr/>
        </p:nvSpPr>
        <p:spPr>
          <a:xfrm>
            <a:off x="2260440" y="4262400"/>
            <a:ext cx="3017880" cy="109872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ぴつ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 rot="19680000">
            <a:off x="4897440" y="4743000"/>
            <a:ext cx="2320920" cy="303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 rot="19680000">
            <a:off x="2747880" y="5551200"/>
            <a:ext cx="2320920" cy="303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6160" y="3309840"/>
            <a:ext cx="3017880" cy="109872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ぴつ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 rot="19680000">
            <a:off x="214200" y="2612520"/>
            <a:ext cx="232092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-2400480" y="-3780000"/>
            <a:ext cx="14135400" cy="530388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6" name=""/>
          <p:cNvSpPr/>
          <p:nvPr/>
        </p:nvSpPr>
        <p:spPr>
          <a:xfrm>
            <a:off x="4705200" y="1257480"/>
            <a:ext cx="6705720" cy="10082160"/>
          </a:xfrm>
          <a:prstGeom prst="ellipse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-5143680" y="1200240"/>
            <a:ext cx="9830160" cy="1013940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68200" y="2825640"/>
            <a:ext cx="2210040" cy="6478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677000" y="203688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076480" y="299088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98760" y="5392800"/>
            <a:ext cx="3035160" cy="98424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ぴつ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4924440" y="3147840"/>
            <a:ext cx="3017880" cy="109872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ぴつ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 rot="19680000">
            <a:off x="1231920" y="4663800"/>
            <a:ext cx="2320920" cy="303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 rot="19680000">
            <a:off x="5591160" y="4355640"/>
            <a:ext cx="2320920" cy="303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27520" y="533520"/>
            <a:ext cx="3017880" cy="109836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ぴつ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 rot="19680000">
            <a:off x="2295360" y="901440"/>
            <a:ext cx="2320920" cy="3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44600" y="517680"/>
            <a:ext cx="11479320" cy="10821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4843440" y="2567160"/>
            <a:ext cx="7104240" cy="79912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" name=""/>
          <p:cNvSpPr/>
          <p:nvPr/>
        </p:nvSpPr>
        <p:spPr>
          <a:xfrm>
            <a:off x="474840" y="59220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"/>
          <p:cNvSpPr/>
          <p:nvPr/>
        </p:nvSpPr>
        <p:spPr>
          <a:xfrm>
            <a:off x="577800" y="706320"/>
            <a:ext cx="6477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CD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72360" y="2932200"/>
            <a:ext cx="2914560" cy="653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79800" y="3197160"/>
            <a:ext cx="798480" cy="7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44600" y="517680"/>
            <a:ext cx="11479320" cy="10821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"/>
          <p:cNvSpPr/>
          <p:nvPr/>
        </p:nvSpPr>
        <p:spPr>
          <a:xfrm>
            <a:off x="4843440" y="2567160"/>
            <a:ext cx="7104240" cy="79912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"/>
          <p:cNvSpPr/>
          <p:nvPr/>
        </p:nvSpPr>
        <p:spPr>
          <a:xfrm>
            <a:off x="474840" y="59220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"/>
          <p:cNvSpPr/>
          <p:nvPr/>
        </p:nvSpPr>
        <p:spPr>
          <a:xfrm>
            <a:off x="577800" y="706320"/>
            <a:ext cx="6477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えんぴつ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17580000">
            <a:off x="3943440" y="3552120"/>
            <a:ext cx="1523880" cy="152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372360" y="2932200"/>
            <a:ext cx="2914560" cy="65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44600" y="517680"/>
            <a:ext cx="11479320" cy="10821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4843440" y="2567160"/>
            <a:ext cx="7104240" cy="79912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474840" y="59220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706320"/>
            <a:ext cx="6477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CD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16120" y="1792440"/>
            <a:ext cx="798480" cy="766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9240" y="2736720"/>
            <a:ext cx="3448080" cy="660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44600" y="517680"/>
            <a:ext cx="11479320" cy="10821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"/>
          <p:cNvSpPr/>
          <p:nvPr/>
        </p:nvSpPr>
        <p:spPr>
          <a:xfrm>
            <a:off x="4843440" y="2567160"/>
            <a:ext cx="7104240" cy="79912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"/>
          <p:cNvSpPr/>
          <p:nvPr/>
        </p:nvSpPr>
        <p:spPr>
          <a:xfrm>
            <a:off x="474840" y="59220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577800" y="706320"/>
            <a:ext cx="6477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えんぴつ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17580000">
            <a:off x="439560" y="2358360"/>
            <a:ext cx="1523880" cy="152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9240" y="2738520"/>
            <a:ext cx="3448080" cy="66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44600" y="517680"/>
            <a:ext cx="11479320" cy="10821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4843440" y="2567160"/>
            <a:ext cx="7104240" cy="79912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18480" y="2938320"/>
            <a:ext cx="2209680" cy="6478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02280" y="5618160"/>
            <a:ext cx="201780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1" name=""/>
          <p:cNvSpPr/>
          <p:nvPr/>
        </p:nvSpPr>
        <p:spPr>
          <a:xfrm>
            <a:off x="2857680" y="4440240"/>
            <a:ext cx="201744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れ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3294000"/>
            <a:ext cx="2017440" cy="108108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れ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2400480" y="-3780000"/>
            <a:ext cx="14135400" cy="5303880"/>
          </a:xfrm>
          <a:prstGeom prst="ellipse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4" name=""/>
          <p:cNvSpPr/>
          <p:nvPr/>
        </p:nvSpPr>
        <p:spPr>
          <a:xfrm>
            <a:off x="4705200" y="1257480"/>
            <a:ext cx="6705720" cy="10082160"/>
          </a:xfrm>
          <a:prstGeom prst="ellipse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>
            <a:off x="-5143680" y="1200240"/>
            <a:ext cx="9830160" cy="1013940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4040" y="2481120"/>
            <a:ext cx="2733840" cy="6534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789600" y="14670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rot="15240000">
            <a:off x="2329920" y="3787200"/>
            <a:ext cx="1523880" cy="152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65240" y="59220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0" name=""/>
          <p:cNvSpPr/>
          <p:nvPr/>
        </p:nvSpPr>
        <p:spPr>
          <a:xfrm>
            <a:off x="1739880" y="706320"/>
            <a:ext cx="6477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こ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えんぴつ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0880" y="438120"/>
            <a:ext cx="85752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2400480" y="-3780000"/>
            <a:ext cx="14135400" cy="5303880"/>
          </a:xfrm>
          <a:prstGeom prst="ellipse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"/>
          <p:cNvSpPr/>
          <p:nvPr/>
        </p:nvSpPr>
        <p:spPr>
          <a:xfrm>
            <a:off x="4707000" y="1257480"/>
            <a:ext cx="6705360" cy="10082160"/>
          </a:xfrm>
          <a:prstGeom prst="ellipse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-5143680" y="1201680"/>
            <a:ext cx="9830160" cy="1013940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89600" y="1467000"/>
            <a:ext cx="240192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84280" y="554040"/>
            <a:ext cx="667692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668160"/>
            <a:ext cx="6476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れ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ff"/>
                </a:solidFill>
                <a:latin typeface="YOzFontNP04"/>
                <a:ea typeface="YOzFontNP04"/>
              </a:rPr>
              <a:t>CD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242120" y="2865600"/>
            <a:ext cx="723960" cy="69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5320" y="2835360"/>
            <a:ext cx="2914920" cy="653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66720" y="380880"/>
            <a:ext cx="85716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4:44:14Z</dcterms:created>
  <dc:creator/>
  <dc:description/>
  <dc:language>en-US</dc:language>
  <cp:lastModifiedBy/>
  <dcterms:modified xsi:type="dcterms:W3CDTF">2016-05-24T19:15:01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