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49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7.jpeg" ContentType="image/jpe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27.jpeg" ContentType="image/jpe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47.png" ContentType="image/png"/>
  <Override PartName="/ppt/media/image5.png" ContentType="image/png"/>
  <Override PartName="/ppt/media/image35.png" ContentType="image/png"/>
  <Override PartName="/ppt/media/image12.jpeg" ContentType="image/jpeg"/>
  <Override PartName="/ppt/media/image34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310760" y="1027080"/>
            <a:ext cx="493092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69640" y="5086080"/>
            <a:ext cx="52196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37" name=""/>
          <p:cNvSpPr/>
          <p:nvPr/>
        </p:nvSpPr>
        <p:spPr>
          <a:xfrm>
            <a:off x="755640" y="5078520"/>
            <a:ext cx="6043680" cy="47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5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5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5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6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6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6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6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6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7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7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3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7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7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7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8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8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8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8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8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9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9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4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9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9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9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0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0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0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0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0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1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1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4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1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1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1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2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2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2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2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2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3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3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4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3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3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4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4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5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5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39440" y="4390200"/>
            <a:ext cx="86043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3944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836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8600" y="210132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7760" y="210132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39440" y="439020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48600" y="439020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57760" y="439020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43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43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3944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836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39440" y="4390200"/>
            <a:ext cx="86043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43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272360" y="7056360"/>
            <a:ext cx="2779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http://j-learning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19280" y="404640"/>
            <a:ext cx="6945120" cy="15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73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だい </a:t>
            </a:r>
            <a:r>
              <a:rPr b="0" lang="fr-FR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27 </a:t>
            </a: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か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00360" y="2025720"/>
            <a:ext cx="48402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073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スライド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899640" y="5578560"/>
            <a:ext cx="1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92640" y="4813200"/>
            <a:ext cx="2438280" cy="16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かのうどう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は・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43160" y="7529400"/>
            <a:ext cx="61920" cy="32040"/>
          </a:xfrm>
          <a:custGeom>
            <a:avLst/>
            <a:gdLst/>
            <a:ahLst/>
            <a:rect l="l" t="t" r="r" b="b"/>
            <a:pathLst>
              <a:path w="172" h="86">
                <a:moveTo>
                  <a:pt x="171" y="85"/>
                </a:moveTo>
                <a:lnTo>
                  <a:pt x="0" y="0"/>
                </a:lnTo>
                <a:lnTo>
                  <a:pt x="171" y="8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784080" y="2200320"/>
            <a:ext cx="3624480" cy="11332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28880" y="2274840"/>
            <a:ext cx="666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464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19360" y="2259000"/>
            <a:ext cx="2547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464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80"/>
                </a:solidFill>
                <a:latin typeface="Times New Roman"/>
                <a:ea typeface="YOzFontNP04"/>
              </a:rPr>
              <a:t>きま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57320" y="2930400"/>
            <a:ext cx="3622680" cy="8114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448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ーｉ → ー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33480" y="2273400"/>
            <a:ext cx="167472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464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Times New Roman"/>
                <a:ea typeface="YOzFontNP04"/>
              </a:rPr>
              <a:t>け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ま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90480" y="3841920"/>
            <a:ext cx="3624480" cy="11332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17720" y="3983040"/>
            <a:ext cx="666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464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57520" y="3983040"/>
            <a:ext cx="2547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464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80"/>
                </a:solidFill>
                <a:latin typeface="Times New Roman"/>
                <a:ea typeface="YOzFontNP04"/>
              </a:rPr>
              <a:t>みま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20720" y="4589640"/>
            <a:ext cx="4175280" cy="811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448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ーｉ → ー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95600" y="3983040"/>
            <a:ext cx="167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464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Times New Roman"/>
                <a:ea typeface="YOzFontNP04"/>
              </a:rPr>
              <a:t>め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ま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1440" y="1224000"/>
            <a:ext cx="3052800" cy="965160"/>
          </a:xfrm>
          <a:prstGeom prst="roundRect">
            <a:avLst>
              <a:gd name="adj" fmla="val 16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3672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GR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27480" y="2281320"/>
            <a:ext cx="3624480" cy="11332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25920" y="2313000"/>
            <a:ext cx="66708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464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60960" y="2325600"/>
            <a:ext cx="254808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464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80"/>
                </a:solidFill>
                <a:latin typeface="Times New Roman"/>
                <a:ea typeface="YOzFontNP04"/>
              </a:rPr>
              <a:t>ま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54720" y="2970360"/>
            <a:ext cx="4444920" cy="811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448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ー  →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+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られま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30880" y="2313000"/>
            <a:ext cx="223524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464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Times New Roman"/>
                <a:ea typeface="YOzFontNP04"/>
              </a:rPr>
              <a:t>られ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ま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87880" y="3881520"/>
            <a:ext cx="3624480" cy="11332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13320" y="4022640"/>
            <a:ext cx="111924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464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た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675480" y="4022640"/>
            <a:ext cx="171756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464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80"/>
                </a:solidFill>
                <a:latin typeface="Times New Roman"/>
                <a:ea typeface="YOzFontNP04"/>
              </a:rPr>
              <a:t>ま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42120" y="4680000"/>
            <a:ext cx="4278240" cy="811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448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ー →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+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られま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562800" y="4060800"/>
            <a:ext cx="223524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464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Times New Roman"/>
                <a:ea typeface="YOzFontNP04"/>
              </a:rPr>
              <a:t>られ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ま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94400" y="1266840"/>
            <a:ext cx="3052440" cy="965160"/>
          </a:xfrm>
          <a:prstGeom prst="roundRect">
            <a:avLst>
              <a:gd name="adj" fmla="val 16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3672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GR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0280" y="5621400"/>
            <a:ext cx="3052800" cy="965160"/>
          </a:xfrm>
          <a:prstGeom prst="roundRect">
            <a:avLst>
              <a:gd name="adj" fmla="val 16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3672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GR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26040" y="5549760"/>
            <a:ext cx="5340240" cy="965520"/>
          </a:xfrm>
          <a:prstGeom prst="roundRect">
            <a:avLst>
              <a:gd name="adj" fmla="val 16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3672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きます → </a:t>
            </a:r>
            <a:r>
              <a:rPr b="0" lang="ja-JP" sz="3600" spc="-1" strike="noStrike">
                <a:solidFill>
                  <a:srgbClr val="ff0000"/>
                </a:solidFill>
                <a:latin typeface="Times New Roman"/>
                <a:ea typeface="YOzFontNP04"/>
              </a:rPr>
              <a:t>こられ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ま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40080" y="6611760"/>
            <a:ext cx="4497480" cy="947880"/>
          </a:xfrm>
          <a:prstGeom prst="roundRect">
            <a:avLst>
              <a:gd name="adj" fmla="val 1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3672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します → </a:t>
            </a:r>
            <a:r>
              <a:rPr b="0" lang="ja-JP" sz="3600" spc="-1" strike="noStrike">
                <a:solidFill>
                  <a:srgbClr val="ff0000"/>
                </a:solidFill>
                <a:latin typeface="Times New Roman"/>
                <a:ea typeface="YOzFontNP04"/>
              </a:rPr>
              <a:t>でき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ま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97000" y="109440"/>
            <a:ext cx="9624960" cy="1117800"/>
            <a:chOff x="297000" y="109440"/>
            <a:chExt cx="9624960" cy="1117800"/>
          </a:xfrm>
        </p:grpSpPr>
        <p:sp>
          <p:nvSpPr>
            <p:cNvPr id="103" name=""/>
            <p:cNvSpPr/>
            <p:nvPr/>
          </p:nvSpPr>
          <p:spPr>
            <a:xfrm>
              <a:off x="297000" y="109440"/>
              <a:ext cx="9624960" cy="1117800"/>
            </a:xfrm>
            <a:prstGeom prst="roundRect">
              <a:avLst>
                <a:gd name="adj" fmla="val 139"/>
              </a:avLst>
            </a:prstGeom>
            <a:solidFill>
              <a:srgbClr val="ff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368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800" spc="-1" strike="noStrike">
                  <a:solidFill>
                    <a:srgbClr val="000000"/>
                  </a:solidFill>
                  <a:latin typeface="mikachan"/>
                  <a:ea typeface="mikachan"/>
                </a:rPr>
                <a:t>かのうどうし </a:t>
              </a:r>
              <a:r>
                <a:rPr b="0" lang="fr-FR" sz="4800" spc="-1" strike="noStrike">
                  <a:solidFill>
                    <a:srgbClr val="000000"/>
                  </a:solidFill>
                  <a:latin typeface="mikachan"/>
                  <a:ea typeface="mikachan"/>
                </a:rPr>
                <a:t>VERBES POTENTIELS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dur="indefinite" fill="hold">
                      <p:stCondLst>
                        <p:cond delay="indefinite"/>
                      </p:stCondLst>
                      <p:childTnLst>
                        <p:par>
                          <p:cTn id="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1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c</p:attrName>
                                        </p:attrNameLst>
                                      </p:cBhvr>
                                      <p:to>
                                        <a:srgbClr val="ff3333"/>
                                      </p:to>
                                    </p:animClr>
                                    <p:set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dur="indefinite" fill="hold">
                      <p:stCondLst>
                        <p:cond delay="indefinite"/>
                      </p:stCondLst>
                      <p:childTnLst>
                        <p:par>
                          <p:cTn id="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dur="indefinite" fill="hold">
                      <p:stCondLst>
                        <p:cond delay="indefinite"/>
                      </p:stCondLst>
                      <p:childTnLst>
                        <p:par>
                          <p:cTn id="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evt="end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set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dur="indefinite" fill="hold">
                      <p:stCondLst>
                        <p:cond delay="indefinite"/>
                      </p:stCondLst>
                      <p:childTnLst>
                        <p:par>
                          <p:cTn id="1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dur="indefinite" fill="hold">
                      <p:stCondLst>
                        <p:cond delay="indefinite"/>
                      </p:stCondLst>
                      <p:childTnLst>
                        <p:par>
                          <p:cTn id="1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dur="indefinite" fill="hold">
                      <p:stCondLst>
                        <p:cond delay="indefinite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1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c</p:attrName>
                                        </p:attrNameLst>
                                      </p:cBhvr>
                                      <p:to>
                                        <a:srgbClr val="ff3333"/>
                                      </p:to>
                                    </p:animClr>
                                    <p:set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dur="indefinite" fill="hold">
                      <p:stCondLst>
                        <p:cond delay="indefinite"/>
                      </p:stCondLst>
                      <p:childTnLst>
                        <p:par>
                          <p:cTn id="1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dur="indefinite" fill="hold">
                      <p:stCondLst>
                        <p:cond delay="indefinite"/>
                      </p:stCondLst>
                      <p:childTnLst>
                        <p:par>
                          <p:cTn id="1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dur="indefinite" fill="hold">
                      <p:stCondLst>
                        <p:cond delay="indefinite"/>
                      </p:stCondLst>
                      <p:childTnLst>
                        <p:par>
                          <p:cTn id="1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evt="end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set>
                                      <p:cBhvr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dur="indefinite" fill="hold">
                      <p:stCondLst>
                        <p:cond delay="indefinite"/>
                      </p:stCondLst>
                      <p:childTnLst>
                        <p:par>
                          <p:cTn id="1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dur="indefinite" fill="hold">
                      <p:stCondLst>
                        <p:cond delay="indefinite"/>
                      </p:stCondLst>
                      <p:childTnLst>
                        <p:par>
                          <p:cTn id="1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dur="indefinite" fill="hold">
                      <p:stCondLst>
                        <p:cond delay="indefinite"/>
                      </p:stCondLst>
                      <p:childTnLst>
                        <p:par>
                          <p:cTn id="1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dur="indefinite" fill="hold">
                      <p:stCondLst>
                        <p:cond delay="indefinite"/>
                      </p:stCondLst>
                      <p:childTnLst>
                        <p:par>
                          <p:cTn id="1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222800" y="1573200"/>
            <a:ext cx="3951360" cy="9485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33640" y="1171440"/>
            <a:ext cx="31017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48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When I find my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n times of troubl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2200" y="282600"/>
            <a:ext cx="4595760" cy="874800"/>
          </a:xfrm>
          <a:prstGeom prst="ellipse">
            <a:avLst/>
          </a:prstGeom>
          <a:solidFill>
            <a:srgbClr val="ffcc99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912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えいごのう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39960" y="2381400"/>
            <a:ext cx="1428480" cy="1428480"/>
          </a:xfrm>
          <a:prstGeom prst="ellipse">
            <a:avLst/>
          </a:prstGeom>
          <a:noFill/>
          <a:ln w="108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2320" y="5281560"/>
            <a:ext cx="908388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えいごのうた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うたう</a:t>
            </a:r>
            <a:r>
              <a:rPr b="0" lang="ja-JP" sz="4800" spc="-1" strike="noStrike">
                <a:solidFill>
                  <a:srgbClr val="ff0000"/>
                </a:solidFill>
                <a:latin typeface="YOzFontNP04"/>
                <a:ea typeface="YOzFontNP04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きます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91080" y="642960"/>
            <a:ext cx="1761840" cy="1857240"/>
          </a:xfrm>
          <a:custGeom>
            <a:avLst/>
            <a:gdLst/>
            <a:ahLst/>
            <a:rect l="l" t="t" r="r" b="b"/>
            <a:pathLst>
              <a:path w="4896" h="5161">
                <a:moveTo>
                  <a:pt x="4895" y="5160"/>
                </a:moveTo>
                <a:cubicBezTo>
                  <a:pt x="4446" y="4193"/>
                  <a:pt x="3546" y="3705"/>
                  <a:pt x="2911" y="2845"/>
                </a:cubicBezTo>
                <a:cubicBezTo>
                  <a:pt x="2258" y="1960"/>
                  <a:pt x="1400" y="1245"/>
                  <a:pt x="794" y="331"/>
                </a:cubicBezTo>
                <a:lnTo>
                  <a:pt x="132" y="0"/>
                </a:lnTo>
                <a:lnTo>
                  <a:pt x="0" y="33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38400" y="2886120"/>
            <a:ext cx="4143240" cy="479520"/>
          </a:xfrm>
          <a:custGeom>
            <a:avLst/>
            <a:gdLst/>
            <a:ahLst/>
            <a:rect l="l" t="t" r="r" b="b"/>
            <a:pathLst>
              <a:path w="11510" h="1331">
                <a:moveTo>
                  <a:pt x="11509" y="1176"/>
                </a:moveTo>
                <a:cubicBezTo>
                  <a:pt x="10698" y="956"/>
                  <a:pt x="9833" y="1330"/>
                  <a:pt x="9062" y="845"/>
                </a:cubicBezTo>
                <a:cubicBezTo>
                  <a:pt x="8322" y="380"/>
                  <a:pt x="7460" y="471"/>
                  <a:pt x="6615" y="316"/>
                </a:cubicBezTo>
                <a:cubicBezTo>
                  <a:pt x="5444" y="101"/>
                  <a:pt x="4226" y="189"/>
                  <a:pt x="3043" y="316"/>
                </a:cubicBezTo>
                <a:cubicBezTo>
                  <a:pt x="2200" y="406"/>
                  <a:pt x="1478" y="0"/>
                  <a:pt x="662" y="184"/>
                </a:cubicBezTo>
                <a:lnTo>
                  <a:pt x="0" y="184"/>
                </a:lnTo>
                <a:lnTo>
                  <a:pt x="0" y="18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52320" y="5281560"/>
            <a:ext cx="908388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えいごのうた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うたえ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ます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294600" y="3036960"/>
            <a:ext cx="109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dur="indefinite" fill="hold">
                      <p:stCondLst>
                        <p:cond delay="indefinite"/>
                      </p:stCondLst>
                      <p:childTnLst>
                        <p:par>
                          <p:cTn id="1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483080" y="708120"/>
            <a:ext cx="5560920" cy="2678040"/>
          </a:xfrm>
          <a:prstGeom prst="ellipse">
            <a:avLst/>
          </a:prstGeom>
          <a:noFill/>
          <a:ln w="7200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72320" y="3963960"/>
            <a:ext cx="1390680" cy="139068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5760" y="5529240"/>
            <a:ext cx="9648720" cy="1530360"/>
          </a:xfrm>
          <a:prstGeom prst="roundRect">
            <a:avLst>
              <a:gd name="adj" fmla="val 10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かんじ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おぼえる</a:t>
            </a:r>
            <a:r>
              <a:rPr b="0" lang="ja-JP" sz="4800" spc="-1" strike="noStrike">
                <a:solidFill>
                  <a:srgbClr val="ff0000"/>
                </a:solidFill>
                <a:latin typeface="YOzFontNP04"/>
                <a:ea typeface="YOzFontNP04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きます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5760" y="5529240"/>
            <a:ext cx="9648720" cy="1530360"/>
          </a:xfrm>
          <a:prstGeom prst="roundRect">
            <a:avLst>
              <a:gd name="adj" fmla="val 10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かんじ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が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おぼえられ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ます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dur="indefinite" fill="hold">
                      <p:stCondLst>
                        <p:cond delay="indefinite"/>
                      </p:stCondLst>
                      <p:childTnLst>
                        <p:par>
                          <p:cTn id="1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128600" y="2081160"/>
            <a:ext cx="7513920" cy="51292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 flipH="1">
            <a:off x="4343400" y="2930400"/>
            <a:ext cx="1036800" cy="292284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06920" y="1639800"/>
            <a:ext cx="3417840" cy="1611360"/>
          </a:xfrm>
          <a:prstGeom prst="roundRect">
            <a:avLst>
              <a:gd name="adj" fmla="val 97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Lucida Sans"/>
                <a:ea typeface="Kochi Mincho"/>
              </a:rPr>
              <a:t>Chère Carolin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Lucida Sans"/>
                <a:ea typeface="Kochi Mincho"/>
              </a:rPr>
              <a:t>comment vas-t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Lucida Sans"/>
                <a:ea typeface="Kochi Mincho"/>
              </a:rPr>
              <a:t>.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4440" y="438120"/>
            <a:ext cx="6256440" cy="939960"/>
          </a:xfrm>
          <a:prstGeom prst="roundRect">
            <a:avLst>
              <a:gd name="adj" fmla="val 1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フランスご てがみ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52320" y="5281560"/>
            <a:ext cx="908388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フランスご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で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てがみ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かく</a:t>
            </a:r>
            <a:r>
              <a:rPr b="0" lang="ja-JP" sz="4800" spc="-1" strike="noStrike">
                <a:solidFill>
                  <a:srgbClr val="ff0000"/>
                </a:solidFill>
                <a:latin typeface="YOzFontNP04"/>
                <a:ea typeface="YOzFontNP04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きます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52320" y="5281560"/>
            <a:ext cx="908388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フランスご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で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てがみ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かく</a:t>
            </a:r>
            <a:r>
              <a:rPr b="0" lang="ja-JP" sz="4800" spc="-1" strike="noStrike">
                <a:solidFill>
                  <a:srgbClr val="ff0000"/>
                </a:solidFill>
                <a:latin typeface="YOzFontNP04"/>
                <a:ea typeface="YOzFontNP04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きます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2320" y="5281560"/>
            <a:ext cx="908388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フランスご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で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てがみ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かけ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ます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dur="indefinite" fill="hold">
                      <p:stCondLst>
                        <p:cond delay="indefinite"/>
                      </p:stCondLst>
                      <p:childTnLst>
                        <p:par>
                          <p:cTn id="1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119240" y="906480"/>
            <a:ext cx="4560840" cy="6653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flipH="1">
            <a:off x="4343400" y="2930400"/>
            <a:ext cx="1036800" cy="292284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06920" y="1639800"/>
            <a:ext cx="3417840" cy="1611360"/>
          </a:xfrm>
          <a:prstGeom prst="roundRect">
            <a:avLst>
              <a:gd name="adj" fmla="val 97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04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mikachan"/>
                <a:ea typeface="mikachan"/>
              </a:rPr>
              <a:t>もしもし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mikachan"/>
                <a:ea typeface="mikachan"/>
              </a:rPr>
              <a:t>きょうこさん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mikachan"/>
                <a:ea typeface="mikachan"/>
              </a:rPr>
              <a:t>おげんきです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44440" y="438120"/>
            <a:ext cx="6256440" cy="939960"/>
          </a:xfrm>
          <a:prstGeom prst="roundRect">
            <a:avLst>
              <a:gd name="adj" fmla="val 1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にほんご でん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2320" y="5281560"/>
            <a:ext cx="908388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にほんご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で 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んわ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かける</a:t>
            </a:r>
            <a:r>
              <a:rPr b="0" lang="ja-JP" sz="4800" spc="-1" strike="noStrike">
                <a:solidFill>
                  <a:srgbClr val="ff0000"/>
                </a:solidFill>
                <a:latin typeface="YOzFontNP04"/>
                <a:ea typeface="YOzFontNP04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きます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52320" y="5281560"/>
            <a:ext cx="908388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にほんご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で 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んわ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かけられ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ます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dur="indefinite" fill="hold">
                      <p:stCondLst>
                        <p:cond delay="indefinite"/>
                      </p:stCondLst>
                      <p:childTnLst>
                        <p:par>
                          <p:cTn id="1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44440" y="438120"/>
            <a:ext cx="6256440" cy="939960"/>
          </a:xfrm>
          <a:prstGeom prst="roundRect">
            <a:avLst>
              <a:gd name="adj" fmla="val 1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えいごのしんぶ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41280" y="5281560"/>
            <a:ext cx="7624800" cy="140652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えいご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の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しんぶん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よむ</a:t>
            </a:r>
            <a:r>
              <a:rPr b="0" lang="ja-JP" sz="4800" spc="-1" strike="noStrike">
                <a:solidFill>
                  <a:srgbClr val="ff0000"/>
                </a:solidFill>
                <a:latin typeface="YOzFontNP04"/>
                <a:ea typeface="YOzFontNP04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きます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41280" y="5283360"/>
            <a:ext cx="7624800" cy="140652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えいご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の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しんぶん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よめ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ます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dur="indefinite" fill="hold">
                      <p:stCondLst>
                        <p:cond delay="indefinite"/>
                      </p:stCondLst>
                      <p:childTnLst>
                        <p:par>
                          <p:cTn id="1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552680" y="52560"/>
            <a:ext cx="6561000" cy="75070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52320" y="5281560"/>
            <a:ext cx="908388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6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じ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に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おきる</a:t>
            </a:r>
            <a:r>
              <a:rPr b="0" lang="ja-JP" sz="4800" spc="-1" strike="noStrike">
                <a:solidFill>
                  <a:srgbClr val="ff0000"/>
                </a:solidFill>
                <a:latin typeface="YOzFontNP04"/>
                <a:ea typeface="YOzFontNP04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きます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35160" y="2309760"/>
            <a:ext cx="1763640" cy="687600"/>
          </a:xfrm>
          <a:prstGeom prst="roundRect">
            <a:avLst>
              <a:gd name="adj" fmla="val 231"/>
            </a:avLst>
          </a:prstGeom>
          <a:solidFill>
            <a:srgbClr val="000000"/>
          </a:solidFill>
          <a:ln w="1800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5640" bIns="90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Luxi Sans"/>
                <a:ea typeface="Luxi Sans"/>
              </a:rPr>
              <a:t>6</a:t>
            </a:r>
            <a:r>
              <a:rPr b="0" lang="ja-JP" sz="4000" spc="-1" strike="noStrike">
                <a:solidFill>
                  <a:srgbClr val="ffff00"/>
                </a:solidFill>
                <a:latin typeface="Luxi Sans"/>
                <a:ea typeface="Luxi Sans"/>
              </a:rPr>
              <a:t>：</a:t>
            </a:r>
            <a:r>
              <a:rPr b="0" lang="fr-FR" sz="4000" spc="-1" strike="noStrike">
                <a:solidFill>
                  <a:srgbClr val="ffff00"/>
                </a:solidFill>
                <a:latin typeface="Luxi Sans"/>
                <a:ea typeface="Luxi Sans"/>
              </a:rPr>
              <a:t>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52320" y="5281560"/>
            <a:ext cx="908388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6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じ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に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おきられ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ます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dur="indefinite" fill="hold">
                      <p:stCondLst>
                        <p:cond delay="indefinite"/>
                      </p:stCondLst>
                      <p:childTnLst>
                        <p:par>
                          <p:cTn id="1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7345440" y="3579840"/>
            <a:ext cx="27334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るい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998960" y="6045120"/>
            <a:ext cx="210528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960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YOzFontNP04"/>
                <a:ea typeface="YOzFontNP04"/>
              </a:rPr>
              <a:t>大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8200" y="5427720"/>
            <a:ext cx="922500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るい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だいがく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へ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くる</a:t>
            </a:r>
            <a:r>
              <a:rPr b="0" lang="ja-JP" sz="4800" spc="-1" strike="noStrike">
                <a:solidFill>
                  <a:srgbClr val="ff0000"/>
                </a:solidFill>
                <a:latin typeface="YOzFontNP04"/>
                <a:ea typeface="YOzFontNP04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きます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28560" y="1792440"/>
            <a:ext cx="4010040" cy="28429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808280" y="4067280"/>
            <a:ext cx="1735200" cy="9381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こ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4619160" y="2417760"/>
            <a:ext cx="5139000" cy="852480"/>
          </a:xfrm>
          <a:prstGeom prst="line">
            <a:avLst/>
          </a:prstGeom>
          <a:ln w="72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256360" y="3838680"/>
            <a:ext cx="2160360" cy="15494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540400" y="1171440"/>
            <a:ext cx="1376280" cy="36496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96800" y="5551560"/>
            <a:ext cx="922500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るい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だいがく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へ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こられ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ます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dur="indefinite" fill="hold">
                      <p:stCondLst>
                        <p:cond delay="indefinite"/>
                      </p:stCondLst>
                      <p:childTnLst>
                        <p:par>
                          <p:cTn id="1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368520" y="334800"/>
            <a:ext cx="5345280" cy="67564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25320" y="4597560"/>
            <a:ext cx="8767800" cy="142524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くるま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うんてんする</a:t>
            </a:r>
            <a:r>
              <a:rPr b="0" lang="ja-JP" sz="4800" spc="-1" strike="noStrike">
                <a:solidFill>
                  <a:srgbClr val="ff0000"/>
                </a:solidFill>
                <a:latin typeface="YOzFontNP04"/>
                <a:ea typeface="YOzFontNP04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きます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5320" y="4597560"/>
            <a:ext cx="8767800" cy="142524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くるま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うんてん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きます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dur="indefinite" fill="hold">
                      <p:stCondLst>
                        <p:cond delay="indefinite"/>
                      </p:stCondLst>
                      <p:childTnLst>
                        <p:par>
                          <p:cTn id="2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203040"/>
            <a:ext cx="10078920" cy="71359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72960" y="3848040"/>
            <a:ext cx="4440240" cy="229068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36640" y="1643040"/>
            <a:ext cx="876780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およぐ</a:t>
            </a:r>
            <a:r>
              <a:rPr b="0" lang="ja-JP" sz="4800" spc="-1" strike="noStrike">
                <a:solidFill>
                  <a:srgbClr val="ff0000"/>
                </a:solidFill>
                <a:latin typeface="YOzFontNP04"/>
                <a:ea typeface="YOzFontNP04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きます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36640" y="1643040"/>
            <a:ext cx="876780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およげ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ます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dur="indefinite" fill="hold">
                      <p:stCondLst>
                        <p:cond delay="indefinite"/>
                      </p:stCondLst>
                      <p:childTnLst>
                        <p:par>
                          <p:cTn id="2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79280"/>
            <a:ext cx="6170760" cy="3202200"/>
          </a:xfrm>
          <a:prstGeom prst="roundRect">
            <a:avLst>
              <a:gd name="adj" fmla="val 46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ケーキが みっつ</a:t>
            </a: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し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り</a:t>
            </a: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ません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× 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みっつだけ ありま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203040"/>
            <a:ext cx="10078920" cy="71359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878360" y="3797280"/>
            <a:ext cx="5032440" cy="26780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6640" y="1643040"/>
            <a:ext cx="876780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およぐ</a:t>
            </a:r>
            <a:r>
              <a:rPr b="0" lang="ja-JP" sz="4800" spc="-1" strike="noStrike">
                <a:solidFill>
                  <a:srgbClr val="ff0000"/>
                </a:solidFill>
                <a:latin typeface="YOzFontNP04"/>
                <a:ea typeface="YOzFontNP04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きません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36640" y="1643040"/>
            <a:ext cx="876780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およげ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ません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dur="indefinite" fill="hold">
                      <p:stCondLst>
                        <p:cond delay="indefinite"/>
                      </p:stCondLst>
                      <p:childTnLst>
                        <p:par>
                          <p:cTn id="2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47760" y="584280"/>
            <a:ext cx="946944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ゆびわ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が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かえ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ません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-1764360" y="3436920"/>
            <a:ext cx="6032520" cy="2263680"/>
          </a:xfrm>
          <a:custGeom>
            <a:avLst/>
            <a:gdLst>
              <a:gd name="textAreaLeft" fmla="*/ 1326600 w 6032520"/>
              <a:gd name="textAreaRight" fmla="*/ 4705920 w 6032520"/>
              <a:gd name="textAreaTop" fmla="*/ 497520 h 2263680"/>
              <a:gd name="textAreaBottom" fmla="*/ 1766160 h 2263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8000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730760" y="2008080"/>
            <a:ext cx="2133720" cy="64771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063800" y="3618000"/>
            <a:ext cx="909360" cy="11253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662040" y="276120"/>
            <a:ext cx="38098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448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おかねが たりませんから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dur="indefinite" fill="hold">
                      <p:stCondLst>
                        <p:cond delay="indefinite"/>
                      </p:stCondLst>
                      <p:childTnLst>
                        <p:par>
                          <p:cTn id="2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09520" y="166680"/>
            <a:ext cx="9871200" cy="73929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11120" y="2374920"/>
            <a:ext cx="1773360" cy="833400"/>
          </a:xfrm>
          <a:prstGeom prst="roundRect">
            <a:avLst>
              <a:gd name="adj" fmla="val 190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カー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85880" y="493560"/>
            <a:ext cx="6426360" cy="1940040"/>
          </a:xfrm>
          <a:prstGeom prst="wedgeRoundRectCallout">
            <a:avLst>
              <a:gd name="adj1" fmla="val -46810"/>
              <a:gd name="adj2" fmla="val 106675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357880" y="2255760"/>
            <a:ext cx="1803240" cy="53038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3287880" y="4702320"/>
            <a:ext cx="5956200" cy="28573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3340080" y="3938760"/>
            <a:ext cx="1341360" cy="12664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5"/>
          <a:stretch/>
        </p:blipFill>
        <p:spPr>
          <a:xfrm>
            <a:off x="1162080" y="2792520"/>
            <a:ext cx="2519280" cy="6119640"/>
          </a:xfrm>
          <a:prstGeom prst="rect">
            <a:avLst/>
          </a:prstGeom>
          <a:ln w="0">
            <a:noFill/>
          </a:ln>
        </p:spPr>
      </p:pic>
      <p:grpSp>
        <p:nvGrpSpPr>
          <p:cNvPr id="169" name=""/>
          <p:cNvGrpSpPr/>
          <p:nvPr/>
        </p:nvGrpSpPr>
        <p:grpSpPr>
          <a:xfrm>
            <a:off x="2169720" y="4859280"/>
            <a:ext cx="988920" cy="725400"/>
            <a:chOff x="2169720" y="4859280"/>
            <a:chExt cx="988920" cy="725400"/>
          </a:xfrm>
        </p:grpSpPr>
        <p:sp>
          <p:nvSpPr>
            <p:cNvPr id="170" name=""/>
            <p:cNvSpPr/>
            <p:nvPr/>
          </p:nvSpPr>
          <p:spPr>
            <a:xfrm>
              <a:off x="2172960" y="4859280"/>
              <a:ext cx="982440" cy="72540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169720" y="4859280"/>
              <a:ext cx="988920" cy="72540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2698920" y="987480"/>
            <a:ext cx="6700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368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0000ff"/>
                </a:solidFill>
                <a:uFillTx/>
                <a:latin typeface="YOzFontNP04"/>
                <a:ea typeface="YOzFontNP04"/>
              </a:rPr>
              <a:t>カード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OzFontNP04"/>
                <a:ea typeface="YOzFontNP04"/>
              </a:rPr>
              <a:t>で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はらえ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ますか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dur="indefinite" fill="hold">
                      <p:stCondLst>
                        <p:cond delay="indefinite"/>
                      </p:stCondLst>
                      <p:childTnLst>
                        <p:par>
                          <p:cTn id="2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 flipV="1">
            <a:off x="1569960" y="1657440"/>
            <a:ext cx="6513480" cy="4060800"/>
          </a:xfrm>
          <a:prstGeom prst="line">
            <a:avLst/>
          </a:prstGeom>
          <a:ln w="10800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80120" y="360360"/>
            <a:ext cx="3900600" cy="11588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よめま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72960" y="814320"/>
            <a:ext cx="5249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にほんごの しんぶん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よめます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8040" y="2960640"/>
            <a:ext cx="8183520" cy="1300320"/>
          </a:xfrm>
          <a:prstGeom prst="roundRect">
            <a:avLst>
              <a:gd name="adj" fmla="val 120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まだ</a:t>
            </a:r>
            <a:r>
              <a:rPr b="0" lang="fr-FR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 よめません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dur="indefinite" fill="hold">
                      <p:stCondLst>
                        <p:cond delay="indefinite"/>
                      </p:stCondLst>
                      <p:childTnLst>
                        <p:par>
                          <p:cTn id="2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662040" y="546120"/>
            <a:ext cx="8826480" cy="64674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982800" y="5321160"/>
            <a:ext cx="876780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もう</a:t>
            </a:r>
            <a:r>
              <a:rPr b="0" lang="ja-JP" sz="4800" spc="-1" strike="noStrike" u="sng">
                <a:solidFill>
                  <a:srgbClr val="000000"/>
                </a:solidFill>
                <a:uFillTx/>
                <a:latin typeface="YOzFontNP04"/>
                <a:ea typeface="YOzFontNP04"/>
              </a:rPr>
              <a:t>たべられ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ません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dur="indefinite" fill="hold">
                      <p:stCondLst>
                        <p:cond delay="indefinite"/>
                      </p:stCondLst>
                      <p:childTnLst>
                        <p:par>
                          <p:cTn id="2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754600" y="690480"/>
            <a:ext cx="3872160" cy="50212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568840" y="357120"/>
            <a:ext cx="3929040" cy="56228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7200" y="5321160"/>
            <a:ext cx="902160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もう</a:t>
            </a:r>
            <a:r>
              <a:rPr b="0" lang="ja-JP" sz="4800" spc="-1" strike="noStrike" u="sng">
                <a:solidFill>
                  <a:srgbClr val="000000"/>
                </a:solidFill>
                <a:uFillTx/>
                <a:latin typeface="YOzFontNP04"/>
                <a:ea typeface="YOzFontNP04"/>
              </a:rPr>
              <a:t>べんきょう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きません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203040" y="1643040"/>
            <a:ext cx="5124600" cy="35146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4844880" y="3395520"/>
            <a:ext cx="608040" cy="180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dur="indefinite" fill="hold">
                      <p:stCondLst>
                        <p:cond delay="indefinite"/>
                      </p:stCondLst>
                      <p:childTnLst>
                        <p:par>
                          <p:cTn id="2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203040"/>
            <a:ext cx="10078920" cy="71359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4248000" y="3706920"/>
            <a:ext cx="1262160" cy="144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27200" y="5321160"/>
            <a:ext cx="902160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はし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が</a:t>
            </a:r>
            <a:r>
              <a:rPr b="0" lang="fr-FR" sz="4800" spc="-1" strike="noStrike">
                <a:solidFill>
                  <a:srgbClr val="ff0000"/>
                </a:solidFill>
                <a:latin typeface="YOzFontNP04"/>
                <a:ea typeface="YOzFontNP04"/>
              </a:rPr>
              <a:t> 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できます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dur="indefinite" fill="hold">
                      <p:stCondLst>
                        <p:cond delay="indefinite"/>
                      </p:stCondLst>
                      <p:childTnLst>
                        <p:par>
                          <p:cTn id="2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290840" y="1781280"/>
            <a:ext cx="6870960" cy="50752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0" y="2622600"/>
            <a:ext cx="4722840" cy="44863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 flipV="1">
            <a:off x="3882960" y="2122200"/>
            <a:ext cx="1363680" cy="19980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27200" y="5321160"/>
            <a:ext cx="902160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ろめんでんしゃ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が</a:t>
            </a:r>
            <a:r>
              <a:rPr b="0" lang="fr-FR" sz="4800" spc="-1" strike="noStrike">
                <a:solidFill>
                  <a:srgbClr val="ff0000"/>
                </a:solidFill>
                <a:latin typeface="YOzFontNP04"/>
                <a:ea typeface="YOzFontNP04"/>
              </a:rPr>
              <a:t> 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できました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24280" y="676440"/>
            <a:ext cx="20350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3240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よねんま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1940040" y="1428840"/>
            <a:ext cx="1801800" cy="334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dur="indefinite" fill="hold">
                      <p:stCondLst>
                        <p:cond delay="indefinite"/>
                      </p:stCondLst>
                      <p:childTnLst>
                        <p:par>
                          <p:cTn id="2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318960"/>
            <a:ext cx="10078920" cy="72406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992160" y="1389240"/>
            <a:ext cx="5529240" cy="494820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27200" y="5321160"/>
            <a:ext cx="902160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もんだい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が</a:t>
            </a:r>
            <a:r>
              <a:rPr b="0" lang="fr-FR" sz="4800" spc="-1" strike="noStrike">
                <a:solidFill>
                  <a:srgbClr val="ff0000"/>
                </a:solidFill>
                <a:latin typeface="YOzFontNP04"/>
                <a:ea typeface="YOzFontNP04"/>
              </a:rPr>
              <a:t> 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ぜんぶ</a:t>
            </a:r>
            <a:r>
              <a:rPr b="0" lang="fr-FR" sz="4800" spc="-1" strike="noStrike">
                <a:solidFill>
                  <a:srgbClr val="ff0000"/>
                </a:solidFill>
                <a:latin typeface="YOzFontNP04"/>
                <a:ea typeface="YOzFontNP04"/>
              </a:rPr>
              <a:t> 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できました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dur="indefinite" fill="hold">
                      <p:stCondLst>
                        <p:cond delay="indefinite"/>
                      </p:stCondLst>
                      <p:childTnLst>
                        <p:par>
                          <p:cTn id="2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414520" y="1379520"/>
            <a:ext cx="4843440" cy="54640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44440" y="438120"/>
            <a:ext cx="6256440" cy="939960"/>
          </a:xfrm>
          <a:prstGeom prst="roundRect">
            <a:avLst>
              <a:gd name="adj" fmla="val 1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パソコン おんが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141800" y="2525760"/>
            <a:ext cx="2043000" cy="219564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41400" y="5748480"/>
            <a:ext cx="876780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パソコン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で 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んがく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きく</a:t>
            </a:r>
            <a:r>
              <a:rPr b="0" lang="ja-JP" sz="4800" spc="-1" strike="noStrike">
                <a:solidFill>
                  <a:srgbClr val="ff0000"/>
                </a:solidFill>
                <a:latin typeface="YOzFontNP04"/>
                <a:ea typeface="YOzFontNP04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きます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30160" y="5748480"/>
            <a:ext cx="876780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パソコン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で</a:t>
            </a:r>
            <a:r>
              <a:rPr b="0" lang="fr-FR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 おんがく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きけ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ます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dur="indefinite" fill="hold">
                      <p:stCondLst>
                        <p:cond delay="indefinite"/>
                      </p:stCondLst>
                      <p:childTnLst>
                        <p:par>
                          <p:cTn id="2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17480" y="1243080"/>
            <a:ext cx="8464680" cy="35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にほんへ いったことが あります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 →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っか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＋ 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ー →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484360" y="2416320"/>
            <a:ext cx="7178760" cy="1269720"/>
          </a:xfrm>
          <a:prstGeom prst="roundRect">
            <a:avLst>
              <a:gd name="adj" fmla="val 12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はい、いっかい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だけ</a:t>
            </a: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 ありま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98760" y="3754440"/>
            <a:ext cx="7054920" cy="1241280"/>
          </a:xfrm>
          <a:prstGeom prst="roundRect">
            <a:avLst>
              <a:gd name="adj" fmla="val 12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はい、</a:t>
            </a:r>
            <a:r>
              <a:rPr b="0" lang="ja-JP" sz="4000" spc="-1" strike="noStrike">
                <a:solidFill>
                  <a:srgbClr val="0000ff"/>
                </a:solidFill>
                <a:latin typeface="YOzFontNP04"/>
                <a:ea typeface="YOzFontNP04"/>
              </a:rPr>
              <a:t>で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っかい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しか</a:t>
            </a: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 あり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ません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"/>
          <p:cNvGrpSpPr/>
          <p:nvPr/>
        </p:nvGrpSpPr>
        <p:grpSpPr>
          <a:xfrm>
            <a:off x="-1020960" y="-82440"/>
            <a:ext cx="11812320" cy="7410240"/>
            <a:chOff x="-1020960" y="-82440"/>
            <a:chExt cx="11812320" cy="7410240"/>
          </a:xfrm>
        </p:grpSpPr>
        <p:sp>
          <p:nvSpPr>
            <p:cNvPr id="202" name=""/>
            <p:cNvSpPr/>
            <p:nvPr/>
          </p:nvSpPr>
          <p:spPr>
            <a:xfrm>
              <a:off x="8420400" y="-82440"/>
              <a:ext cx="66240" cy="5160960"/>
            </a:xfrm>
            <a:prstGeom prst="line">
              <a:avLst/>
            </a:prstGeom>
            <a:ln w="72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489880" y="5122800"/>
              <a:ext cx="2301480" cy="2205000"/>
            </a:xfrm>
            <a:prstGeom prst="line">
              <a:avLst/>
            </a:prstGeom>
            <a:ln w="72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-1020960" y="5178600"/>
              <a:ext cx="9566280" cy="0"/>
            </a:xfrm>
            <a:prstGeom prst="line">
              <a:avLst/>
            </a:prstGeom>
            <a:ln w="72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2733840"/>
            <a:ext cx="7854840" cy="36208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 flipH="1">
            <a:off x="7624800" y="1397160"/>
            <a:ext cx="2309760" cy="68256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50880" y="4913280"/>
            <a:ext cx="8832960" cy="2154240"/>
          </a:xfrm>
          <a:prstGeom prst="roundRect">
            <a:avLst>
              <a:gd name="adj" fmla="val 6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となりの へや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から</a:t>
            </a:r>
            <a:r>
              <a:rPr b="0" lang="fr-FR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 おと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きこえ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ます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（</a:t>
            </a: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×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けます・きくことができます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639720" y="3051000"/>
            <a:ext cx="920880" cy="19018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763560" y="2268360"/>
            <a:ext cx="6015240" cy="28260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6786720" y="492120"/>
            <a:ext cx="1171440" cy="13622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8783640" y="2259000"/>
            <a:ext cx="876240" cy="13622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6"/>
          <a:stretch/>
        </p:blipFill>
        <p:spPr>
          <a:xfrm>
            <a:off x="7237440" y="1996920"/>
            <a:ext cx="876240" cy="136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dur="indefinite" fill="hold">
                      <p:stCondLst>
                        <p:cond delay="indefinite"/>
                      </p:stCondLst>
                      <p:childTnLst>
                        <p:par>
                          <p:cTn id="2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-111240" y="1393920"/>
            <a:ext cx="10271160" cy="6165720"/>
          </a:xfrm>
          <a:prstGeom prst="roundRect">
            <a:avLst>
              <a:gd name="adj" fmla="val 23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26960" y="3672000"/>
            <a:ext cx="2387520" cy="32493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44440" y="438120"/>
            <a:ext cx="7893000" cy="1011240"/>
          </a:xfrm>
          <a:prstGeom prst="roundRect">
            <a:avLst>
              <a:gd name="adj" fmla="val 15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ユートピア にほんのえい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216240" y="3138120"/>
            <a:ext cx="1465200" cy="71604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27720" y="1476360"/>
            <a:ext cx="5052960" cy="2649600"/>
          </a:xfrm>
          <a:prstGeom prst="roundRect">
            <a:avLst>
              <a:gd name="adj" fmla="val 56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4570560" y="1490760"/>
            <a:ext cx="4995720" cy="26226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1424160" y="3255840"/>
            <a:ext cx="2465280" cy="43038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0" y="4309920"/>
            <a:ext cx="2387520" cy="32497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736560" y="6087960"/>
            <a:ext cx="9220320" cy="1471680"/>
          </a:xfrm>
          <a:prstGeom prst="roundRect">
            <a:avLst>
              <a:gd name="adj" fmla="val 10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ユートピア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で</a:t>
            </a:r>
            <a:r>
              <a:rPr b="0" lang="fr-FR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 にほん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の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えいが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みられ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ます。 （</a:t>
            </a:r>
            <a:r>
              <a:rPr b="0" lang="fr-FR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×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みえます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dur="indefinite" fill="hold">
                      <p:stCondLst>
                        <p:cond delay="indefinite"/>
                      </p:stCondLst>
                      <p:childTnLst>
                        <p:par>
                          <p:cTn id="2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290520" y="206280"/>
            <a:ext cx="9566280" cy="1284480"/>
          </a:xfrm>
          <a:prstGeom prst="roundRect">
            <a:avLst>
              <a:gd name="adj" fmla="val 1398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12720" y="352440"/>
            <a:ext cx="9383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まど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から 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ふじさん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が </a:t>
            </a:r>
            <a:r>
              <a:rPr b="0" lang="ja-JP" sz="4000" spc="-1" strike="noStrike" u="sng">
                <a:solidFill>
                  <a:srgbClr val="000000"/>
                </a:solidFill>
                <a:uFillTx/>
                <a:latin typeface="YOzFontNP04"/>
                <a:ea typeface="YOzFontNP04"/>
              </a:rPr>
              <a:t>みえま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（みられます・みることができます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299880" y="2631960"/>
            <a:ext cx="2686320" cy="49276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4865760" y="2114640"/>
            <a:ext cx="1712880" cy="10857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4316400" y="1890720"/>
            <a:ext cx="2782800" cy="1755720"/>
          </a:xfrm>
          <a:prstGeom prst="ellipse">
            <a:avLst/>
          </a:prstGeom>
          <a:noFill/>
          <a:ln w="108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1805040" y="2692440"/>
            <a:ext cx="2449440" cy="77292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dur="indefinite" fill="hold">
                      <p:stCondLst>
                        <p:cond delay="indefinite"/>
                      </p:stCondLst>
                      <p:childTnLst>
                        <p:par>
                          <p:cTn id="3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 flipH="1" flipV="1">
            <a:off x="6343200" y="3279240"/>
            <a:ext cx="1009800" cy="14796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09800" y="5610240"/>
            <a:ext cx="876744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んわの おと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きこえ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ます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dur="indefinite" fill="hold">
                      <p:stCondLst>
                        <p:cond delay="indefinite"/>
                      </p:stCondLst>
                      <p:childTnLst>
                        <p:par>
                          <p:cTn id="3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-1020960" y="-82440"/>
            <a:ext cx="11812320" cy="7410240"/>
            <a:chOff x="-1020960" y="-82440"/>
            <a:chExt cx="11812320" cy="7410240"/>
          </a:xfrm>
        </p:grpSpPr>
        <p:sp>
          <p:nvSpPr>
            <p:cNvPr id="232" name=""/>
            <p:cNvSpPr/>
            <p:nvPr/>
          </p:nvSpPr>
          <p:spPr>
            <a:xfrm>
              <a:off x="8420400" y="-82440"/>
              <a:ext cx="66240" cy="5160960"/>
            </a:xfrm>
            <a:prstGeom prst="line">
              <a:avLst/>
            </a:prstGeom>
            <a:ln w="72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489880" y="5122800"/>
              <a:ext cx="2301480" cy="2205000"/>
            </a:xfrm>
            <a:prstGeom prst="line">
              <a:avLst/>
            </a:prstGeom>
            <a:ln w="72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-1020960" y="5178600"/>
              <a:ext cx="9566280" cy="0"/>
            </a:xfrm>
            <a:prstGeom prst="line">
              <a:avLst/>
            </a:prstGeom>
            <a:ln w="72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2733840"/>
            <a:ext cx="7854840" cy="36208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 flipH="1">
            <a:off x="7624800" y="1397160"/>
            <a:ext cx="2309760" cy="68256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39720" y="3051000"/>
            <a:ext cx="920880" cy="19018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763560" y="2268360"/>
            <a:ext cx="6015240" cy="28260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1009800" y="5610240"/>
            <a:ext cx="876744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ひとの こえ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きこえ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ます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446880" y="552600"/>
            <a:ext cx="2746440" cy="1020600"/>
          </a:xfrm>
          <a:prstGeom prst="roundRect">
            <a:avLst>
              <a:gd name="adj" fmla="val 153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464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ひと・こ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dur="indefinite" fill="hold">
                      <p:stCondLst>
                        <p:cond delay="indefinite"/>
                      </p:stCondLst>
                      <p:childTnLst>
                        <p:par>
                          <p:cTn id="3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-1020960" y="-82440"/>
            <a:ext cx="11812320" cy="7410240"/>
            <a:chOff x="-1020960" y="-82440"/>
            <a:chExt cx="11812320" cy="7410240"/>
          </a:xfrm>
        </p:grpSpPr>
        <p:sp>
          <p:nvSpPr>
            <p:cNvPr id="242" name=""/>
            <p:cNvSpPr/>
            <p:nvPr/>
          </p:nvSpPr>
          <p:spPr>
            <a:xfrm>
              <a:off x="8420400" y="-82440"/>
              <a:ext cx="66240" cy="5160960"/>
            </a:xfrm>
            <a:prstGeom prst="line">
              <a:avLst/>
            </a:prstGeom>
            <a:ln w="72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489880" y="5122800"/>
              <a:ext cx="2301480" cy="2205000"/>
            </a:xfrm>
            <a:prstGeom prst="line">
              <a:avLst/>
            </a:prstGeom>
            <a:ln w="72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-1020960" y="5178600"/>
              <a:ext cx="9566280" cy="0"/>
            </a:xfrm>
            <a:prstGeom prst="line">
              <a:avLst/>
            </a:prstGeom>
            <a:ln w="72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0" y="2733840"/>
            <a:ext cx="7854840" cy="36208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 flipH="1">
            <a:off x="7624800" y="1397160"/>
            <a:ext cx="2309760" cy="68256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639720" y="3051000"/>
            <a:ext cx="920880" cy="19018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763560" y="2268360"/>
            <a:ext cx="6015240" cy="28260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981000" y="5583240"/>
            <a:ext cx="876780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ff"/>
                </a:solidFill>
                <a:latin typeface="YOzFontNP04"/>
                <a:ea typeface="YOzFontNP04"/>
              </a:rPr>
              <a:t>ひとが はなすこえ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きこえ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ます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57160" y="5653080"/>
            <a:ext cx="876780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ff"/>
                </a:solidFill>
                <a:latin typeface="YOzFontNP04"/>
                <a:ea typeface="YOzFontNP04"/>
              </a:rPr>
              <a:t>ひとが はなしているこえ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きこえ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ます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803840" y="552600"/>
            <a:ext cx="4832280" cy="1117440"/>
          </a:xfrm>
          <a:prstGeom prst="roundRect">
            <a:avLst>
              <a:gd name="adj" fmla="val 139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464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ひとが はなしま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dur="indefinite" fill="hold">
                      <p:stCondLst>
                        <p:cond delay="indefinite"/>
                      </p:stCondLst>
                      <p:childTnLst>
                        <p:par>
                          <p:cTn id="3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dur="indefinite" fill="hold">
                      <p:stCondLst>
                        <p:cond delay="indefinite"/>
                      </p:stCondLst>
                      <p:childTnLst>
                        <p:par>
                          <p:cTn id="3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"/>
          <p:cNvGrpSpPr/>
          <p:nvPr/>
        </p:nvGrpSpPr>
        <p:grpSpPr>
          <a:xfrm>
            <a:off x="-1020960" y="-82440"/>
            <a:ext cx="11812320" cy="7410240"/>
            <a:chOff x="-1020960" y="-82440"/>
            <a:chExt cx="11812320" cy="7410240"/>
          </a:xfrm>
        </p:grpSpPr>
        <p:sp>
          <p:nvSpPr>
            <p:cNvPr id="253" name=""/>
            <p:cNvSpPr/>
            <p:nvPr/>
          </p:nvSpPr>
          <p:spPr>
            <a:xfrm>
              <a:off x="8420400" y="-82440"/>
              <a:ext cx="66240" cy="5160960"/>
            </a:xfrm>
            <a:prstGeom prst="line">
              <a:avLst/>
            </a:prstGeom>
            <a:ln w="72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489880" y="5122800"/>
              <a:ext cx="2301480" cy="2205000"/>
            </a:xfrm>
            <a:prstGeom prst="line">
              <a:avLst/>
            </a:prstGeom>
            <a:ln w="72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-1020960" y="5178600"/>
              <a:ext cx="9566280" cy="0"/>
            </a:xfrm>
            <a:prstGeom prst="line">
              <a:avLst/>
            </a:prstGeom>
            <a:ln w="72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0" y="2733840"/>
            <a:ext cx="7854840" cy="362088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 flipH="1">
            <a:off x="7624800" y="1397160"/>
            <a:ext cx="2309760" cy="68256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639720" y="3051000"/>
            <a:ext cx="920880" cy="19018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763560" y="2268360"/>
            <a:ext cx="6015240" cy="28260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981000" y="5583240"/>
            <a:ext cx="876780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ff"/>
                </a:solidFill>
                <a:latin typeface="YOzFontNP04"/>
                <a:ea typeface="YOzFontNP04"/>
              </a:rPr>
              <a:t>ひとが はなすの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きこえ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ます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982800" y="5680080"/>
            <a:ext cx="876780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ff"/>
                </a:solidFill>
                <a:latin typeface="YOzFontNP04"/>
                <a:ea typeface="YOzFontNP04"/>
              </a:rPr>
              <a:t>ひとが はなしているの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きこえ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ます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803840" y="552600"/>
            <a:ext cx="4832280" cy="1117440"/>
          </a:xfrm>
          <a:prstGeom prst="roundRect">
            <a:avLst>
              <a:gd name="adj" fmla="val 139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464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ひとが はなしま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dur="indefinite" fill="hold">
                      <p:stCondLst>
                        <p:cond delay="indefinite"/>
                      </p:stCondLst>
                      <p:childTnLst>
                        <p:par>
                          <p:cTn id="3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dur="indefinite" fill="hold">
                      <p:stCondLst>
                        <p:cond delay="indefinite"/>
                      </p:stCondLst>
                      <p:childTnLst>
                        <p:par>
                          <p:cTn id="3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011400" y="2948040"/>
            <a:ext cx="2033640" cy="15408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982800" y="5321160"/>
            <a:ext cx="876780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とりの なきごえ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きこえ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ます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dur="indefinite" fill="hold">
                      <p:stCondLst>
                        <p:cond delay="indefinite"/>
                      </p:stCondLst>
                      <p:childTnLst>
                        <p:par>
                          <p:cTn id="3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3011400" y="2948040"/>
            <a:ext cx="2033640" cy="15408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995400" y="5541840"/>
            <a:ext cx="876780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ff"/>
                </a:solidFill>
                <a:latin typeface="YOzFontNP04"/>
                <a:ea typeface="YOzFontNP04"/>
              </a:rPr>
              <a:t>とりが なく こえ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きこえ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ます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023840" y="5486400"/>
            <a:ext cx="876780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ff"/>
                </a:solidFill>
                <a:latin typeface="YOzFontNP04"/>
                <a:ea typeface="YOzFontNP04"/>
              </a:rPr>
              <a:t>とりが ないている こえ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きこえ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ます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03840" y="552600"/>
            <a:ext cx="4832280" cy="1117440"/>
          </a:xfrm>
          <a:prstGeom prst="roundRect">
            <a:avLst>
              <a:gd name="adj" fmla="val 139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464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とりが なきま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dur="indefinite" fill="hold">
                      <p:stCondLst>
                        <p:cond delay="indefinite"/>
                      </p:stCondLst>
                      <p:childTnLst>
                        <p:par>
                          <p:cTn id="3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dur="indefinite" fill="hold">
                      <p:stCondLst>
                        <p:cond delay="indefinite"/>
                      </p:stCondLst>
                      <p:childTnLst>
                        <p:par>
                          <p:cTn id="3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3011400" y="2948040"/>
            <a:ext cx="2033640" cy="15408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982800" y="5321160"/>
            <a:ext cx="876780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ff"/>
                </a:solidFill>
                <a:latin typeface="YOzFontNP04"/>
                <a:ea typeface="YOzFontNP04"/>
              </a:rPr>
              <a:t>とりが なく </a:t>
            </a:r>
            <a:r>
              <a:rPr b="0" lang="ja-JP" sz="4800" spc="-1" strike="noStrike" u="sng">
                <a:solidFill>
                  <a:srgbClr val="0000ff"/>
                </a:solidFill>
                <a:uFillTx/>
                <a:latin typeface="YOzFontNP04"/>
                <a:ea typeface="YOzFontNP04"/>
              </a:rPr>
              <a:t>の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きこえ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ます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941400" y="5307120"/>
            <a:ext cx="876780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ff"/>
                </a:solidFill>
                <a:latin typeface="YOzFontNP04"/>
                <a:ea typeface="YOzFontNP04"/>
              </a:rPr>
              <a:t>とりが ないている </a:t>
            </a:r>
            <a:r>
              <a:rPr b="0" lang="ja-JP" sz="4800" spc="-1" strike="noStrike" u="sng">
                <a:solidFill>
                  <a:srgbClr val="0000ff"/>
                </a:solidFill>
                <a:uFillTx/>
                <a:latin typeface="YOzFontNP04"/>
                <a:ea typeface="YOzFontNP04"/>
              </a:rPr>
              <a:t>の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きこえ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ます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dur="indefinite" fill="hold">
                      <p:stCondLst>
                        <p:cond delay="indefinite"/>
                      </p:stCondLst>
                      <p:childTnLst>
                        <p:par>
                          <p:cTn id="3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dur="indefinite" fill="hold">
                      <p:stCondLst>
                        <p:cond delay="indefinite"/>
                      </p:stCondLst>
                      <p:childTnLst>
                        <p:par>
                          <p:cTn id="3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17480" y="1243080"/>
            <a:ext cx="6264360" cy="35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にほんごが わかります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→ 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すこ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＋ →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  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ー →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67160" y="2259000"/>
            <a:ext cx="7207200" cy="1233360"/>
          </a:xfrm>
          <a:prstGeom prst="roundRect">
            <a:avLst>
              <a:gd name="adj" fmla="val 12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はい、すこし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だけ</a:t>
            </a: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 わかりま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25760" y="3598920"/>
            <a:ext cx="7027920" cy="1289160"/>
          </a:xfrm>
          <a:prstGeom prst="roundRect">
            <a:avLst>
              <a:gd name="adj" fmla="val 12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はい、</a:t>
            </a:r>
            <a:r>
              <a:rPr b="0" lang="ja-JP" sz="4000" spc="-1" strike="noStrike">
                <a:solidFill>
                  <a:srgbClr val="0000ff"/>
                </a:solidFill>
                <a:latin typeface="YOzFontNP04"/>
                <a:ea typeface="YOzFontNP04"/>
              </a:rPr>
              <a:t>で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すこし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しか</a:t>
            </a: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 わかり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ません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dur="indefinite" fill="hold">
                      <p:stCondLst>
                        <p:cond delay="indefinite"/>
                      </p:stCondLst>
                      <p:childTnLst>
                        <p:par>
                          <p:cTn id="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716440" y="2602080"/>
            <a:ext cx="3448080" cy="66006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941400" y="5183280"/>
            <a:ext cx="876780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ff"/>
                </a:solidFill>
                <a:latin typeface="YOzFontNP04"/>
                <a:ea typeface="YOzFontNP04"/>
              </a:rPr>
              <a:t>とりが とぶ</a:t>
            </a:r>
            <a:r>
              <a:rPr b="0" lang="ja-JP" sz="4800" spc="-1" strike="noStrike" u="sng">
                <a:solidFill>
                  <a:srgbClr val="0000ff"/>
                </a:solidFill>
                <a:uFillTx/>
                <a:latin typeface="YOzFontNP04"/>
                <a:ea typeface="YOzFontNP04"/>
              </a:rPr>
              <a:t>の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みえ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ます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98560" y="5183280"/>
            <a:ext cx="876780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ff"/>
                </a:solidFill>
                <a:latin typeface="YOzFontNP04"/>
                <a:ea typeface="YOzFontNP04"/>
              </a:rPr>
              <a:t>とりが とんでいる </a:t>
            </a:r>
            <a:r>
              <a:rPr b="0" lang="ja-JP" sz="4800" spc="-1" strike="noStrike" u="sng">
                <a:solidFill>
                  <a:srgbClr val="0000ff"/>
                </a:solidFill>
                <a:uFillTx/>
                <a:latin typeface="YOzFontNP04"/>
                <a:ea typeface="YOzFontNP04"/>
              </a:rPr>
              <a:t>の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みえ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ます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650880" y="496800"/>
            <a:ext cx="2049480" cy="14940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2278080" y="1822320"/>
            <a:ext cx="5315040" cy="135252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dur="indefinite" fill="hold">
                      <p:stCondLst>
                        <p:cond delay="indefinite"/>
                      </p:stCondLst>
                      <p:childTnLst>
                        <p:par>
                          <p:cTn id="3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dur="indefinite" fill="hold">
                      <p:stCondLst>
                        <p:cond delay="indefinite"/>
                      </p:stCondLst>
                      <p:childTnLst>
                        <p:par>
                          <p:cTn id="3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"/>
          <p:cNvGrpSpPr/>
          <p:nvPr/>
        </p:nvGrpSpPr>
        <p:grpSpPr>
          <a:xfrm>
            <a:off x="297000" y="109440"/>
            <a:ext cx="9624960" cy="1117800"/>
            <a:chOff x="297000" y="109440"/>
            <a:chExt cx="9624960" cy="1117800"/>
          </a:xfrm>
        </p:grpSpPr>
        <p:sp>
          <p:nvSpPr>
            <p:cNvPr id="278" name=""/>
            <p:cNvSpPr/>
            <p:nvPr/>
          </p:nvSpPr>
          <p:spPr>
            <a:xfrm>
              <a:off x="297000" y="109440"/>
              <a:ext cx="9624960" cy="1117800"/>
            </a:xfrm>
            <a:prstGeom prst="roundRect">
              <a:avLst>
                <a:gd name="adj" fmla="val 139"/>
              </a:avLst>
            </a:prstGeom>
            <a:solidFill>
              <a:srgbClr val="ff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368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800" spc="-1" strike="noStrike">
                  <a:solidFill>
                    <a:srgbClr val="000000"/>
                  </a:solidFill>
                  <a:latin typeface="mikachan"/>
                  <a:ea typeface="mikachan"/>
                </a:rPr>
                <a:t>かのうどうし </a:t>
              </a:r>
              <a:r>
                <a:rPr b="0" lang="fr-FR" sz="4800" spc="-1" strike="noStrike">
                  <a:solidFill>
                    <a:srgbClr val="000000"/>
                  </a:solidFill>
                  <a:latin typeface="mikachan"/>
                  <a:ea typeface="mikachan"/>
                </a:rPr>
                <a:t>VERBES POTENTIELS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882720" y="1393920"/>
            <a:ext cx="3046320" cy="55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けま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よめま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みられま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こられま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たベられま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きま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811840" y="3724200"/>
            <a:ext cx="3052800" cy="965160"/>
          </a:xfrm>
          <a:prstGeom prst="roundRect">
            <a:avLst>
              <a:gd name="adj" fmla="val 16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3672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YOzFontNP04"/>
              </a:rPr>
              <a:t>GR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707000" y="5865840"/>
            <a:ext cx="4456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18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cf. </a:t>
            </a:r>
            <a:r>
              <a:rPr b="0" lang="fr-FR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かります→わかれま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ります→あれな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6226200" y="1052640"/>
            <a:ext cx="3457440" cy="50194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6724800" y="2743200"/>
            <a:ext cx="2152440" cy="6515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3"/>
          <a:stretch/>
        </p:blipFill>
        <p:spPr>
          <a:xfrm>
            <a:off x="635040" y="2814480"/>
            <a:ext cx="1666800" cy="3333960"/>
          </a:xfrm>
          <a:prstGeom prst="rect">
            <a:avLst/>
          </a:prstGeom>
          <a:ln w="0">
            <a:noFill/>
          </a:ln>
        </p:spPr>
      </p:pic>
      <p:grpSp>
        <p:nvGrpSpPr>
          <p:cNvPr id="285" name=""/>
          <p:cNvGrpSpPr/>
          <p:nvPr/>
        </p:nvGrpSpPr>
        <p:grpSpPr>
          <a:xfrm>
            <a:off x="0" y="4808520"/>
            <a:ext cx="4248000" cy="2747880"/>
            <a:chOff x="0" y="4808520"/>
            <a:chExt cx="4248000" cy="2747880"/>
          </a:xfrm>
        </p:grpSpPr>
        <p:sp>
          <p:nvSpPr>
            <p:cNvPr id="286" name=""/>
            <p:cNvSpPr/>
            <p:nvPr/>
          </p:nvSpPr>
          <p:spPr>
            <a:xfrm>
              <a:off x="0" y="4808520"/>
              <a:ext cx="4248000" cy="2747880"/>
            </a:xfrm>
            <a:custGeom>
              <a:avLst/>
              <a:gdLst/>
              <a:ahLst/>
              <a:rect l="l" t="t" r="r" b="b"/>
              <a:pathLst>
                <a:path w="11810" h="7644">
                  <a:moveTo>
                    <a:pt x="11809" y="7643"/>
                  </a:moveTo>
                  <a:lnTo>
                    <a:pt x="11809" y="1910"/>
                  </a:lnTo>
                  <a:lnTo>
                    <a:pt x="9898" y="0"/>
                  </a:lnTo>
                  <a:lnTo>
                    <a:pt x="0" y="0"/>
                  </a:lnTo>
                  <a:lnTo>
                    <a:pt x="0" y="5733"/>
                  </a:lnTo>
                  <a:lnTo>
                    <a:pt x="1911" y="7643"/>
                  </a:lnTo>
                  <a:lnTo>
                    <a:pt x="11809" y="7643"/>
                  </a:lnTo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0" y="4808520"/>
              <a:ext cx="4248000" cy="684360"/>
            </a:xfrm>
            <a:custGeom>
              <a:avLst/>
              <a:gdLst/>
              <a:ahLst/>
              <a:rect l="l" t="t" r="r" b="b"/>
              <a:pathLst>
                <a:path w="11810" h="1911">
                  <a:moveTo>
                    <a:pt x="11809" y="1910"/>
                  </a:moveTo>
                  <a:lnTo>
                    <a:pt x="9898" y="0"/>
                  </a:lnTo>
                  <a:lnTo>
                    <a:pt x="0" y="0"/>
                  </a:lnTo>
                  <a:lnTo>
                    <a:pt x="1911" y="1910"/>
                  </a:lnTo>
                  <a:lnTo>
                    <a:pt x="11809" y="1910"/>
                  </a:lnTo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0" y="4808520"/>
              <a:ext cx="685800" cy="2747880"/>
            </a:xfrm>
            <a:custGeom>
              <a:avLst/>
              <a:gdLst/>
              <a:ahLst/>
              <a:rect l="l" t="t" r="r" b="b"/>
              <a:pathLst>
                <a:path w="1912" h="7644">
                  <a:moveTo>
                    <a:pt x="1911" y="7643"/>
                  </a:moveTo>
                  <a:lnTo>
                    <a:pt x="1911" y="1910"/>
                  </a:lnTo>
                  <a:lnTo>
                    <a:pt x="0" y="0"/>
                  </a:lnTo>
                  <a:lnTo>
                    <a:pt x="0" y="5733"/>
                  </a:lnTo>
                  <a:lnTo>
                    <a:pt x="1911" y="7643"/>
                  </a:lnTo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7091280" y="119160"/>
            <a:ext cx="1416240" cy="1428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738920" y="2371680"/>
            <a:ext cx="366840" cy="4111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797960" y="1654200"/>
            <a:ext cx="541080" cy="5238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4"/>
          <a:stretch/>
        </p:blipFill>
        <p:spPr>
          <a:xfrm>
            <a:off x="7139160" y="517680"/>
            <a:ext cx="1222200" cy="51408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2765520" y="781200"/>
            <a:ext cx="4392360" cy="449280"/>
          </a:xfrm>
          <a:custGeom>
            <a:avLst/>
            <a:gdLst/>
            <a:ahLst/>
            <a:rect l="l" t="t" r="r" b="b"/>
            <a:pathLst>
              <a:path w="12202" h="1250">
                <a:moveTo>
                  <a:pt x="12201" y="0"/>
                </a:moveTo>
                <a:lnTo>
                  <a:pt x="0" y="1249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366840" y="716040"/>
            <a:ext cx="2363760" cy="1425600"/>
            <a:chOff x="366840" y="716040"/>
            <a:chExt cx="2363760" cy="1425600"/>
          </a:xfrm>
        </p:grpSpPr>
        <p:sp>
          <p:nvSpPr>
            <p:cNvPr id="295" name=""/>
            <p:cNvSpPr/>
            <p:nvPr/>
          </p:nvSpPr>
          <p:spPr>
            <a:xfrm>
              <a:off x="366840" y="716040"/>
              <a:ext cx="2363760" cy="14256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6" name="" descr=""/>
            <p:cNvPicPr/>
            <p:nvPr/>
          </p:nvPicPr>
          <p:blipFill>
            <a:blip r:embed="rId5"/>
            <a:stretch/>
          </p:blipFill>
          <p:spPr>
            <a:xfrm>
              <a:off x="414360" y="1114560"/>
              <a:ext cx="121932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1768320" y="1046160"/>
              <a:ext cx="60516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03680" bIns="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8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！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1671480" y="2030400"/>
            <a:ext cx="5442120" cy="1452600"/>
            <a:chOff x="1671480" y="2030400"/>
            <a:chExt cx="5442120" cy="1452600"/>
          </a:xfrm>
        </p:grpSpPr>
        <p:sp>
          <p:nvSpPr>
            <p:cNvPr id="299" name=""/>
            <p:cNvSpPr/>
            <p:nvPr/>
          </p:nvSpPr>
          <p:spPr>
            <a:xfrm>
              <a:off x="1671480" y="2030400"/>
              <a:ext cx="5442120" cy="1452600"/>
            </a:xfrm>
            <a:prstGeom prst="wedgeRoundRectCallout">
              <a:avLst>
                <a:gd name="adj1" fmla="val -43504"/>
                <a:gd name="adj2" fmla="val 65277"/>
                <a:gd name="adj3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120760" y="2246400"/>
              <a:ext cx="4057920" cy="10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51840" bIns="0" anchor="t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433080"/>
                  <a:tab algn="l" pos="9882360"/>
                  <a:tab algn="l" pos="10331280"/>
                  <a:tab algn="l" pos="10780560"/>
                  <a:tab algn="l" pos="1078236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mikachan"/>
                  <a:ea typeface="mikachan"/>
                </a:rPr>
                <a:t>	</a:t>
              </a:r>
              <a:r>
                <a:rPr b="0" lang="ja-JP" sz="4000" spc="-1" strike="noStrike" u="sng">
                  <a:solidFill>
                    <a:srgbClr val="000000"/>
                  </a:solidFill>
                  <a:uFillTx/>
                  <a:latin typeface="mikachan"/>
                  <a:ea typeface="mikachan"/>
                </a:rPr>
                <a:t>ほん</a:t>
              </a:r>
              <a:r>
                <a:rPr b="0" lang="ja-JP" sz="4000" spc="-1" strike="noStrike" u="sng">
                  <a:solidFill>
                    <a:srgbClr val="800000"/>
                  </a:solidFill>
                  <a:uFillTx/>
                  <a:latin typeface="mikachan"/>
                  <a:ea typeface="mikachan"/>
                </a:rPr>
                <a:t>は </a:t>
              </a:r>
              <a:r>
                <a:rPr b="0" lang="ja-JP" sz="4000" spc="-1" strike="noStrike">
                  <a:solidFill>
                    <a:srgbClr val="000000"/>
                  </a:solidFill>
                  <a:latin typeface="mikachan"/>
                  <a:ea typeface="mikachan"/>
                </a:rPr>
                <a:t>ここ</a:t>
              </a:r>
              <a:r>
                <a:rPr b="0" lang="ja-JP" sz="4000" spc="-1" strike="noStrike">
                  <a:solidFill>
                    <a:srgbClr val="800000"/>
                  </a:solidFill>
                  <a:latin typeface="mikachan"/>
                  <a:ea typeface="mikachan"/>
                </a:rPr>
                <a:t>で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433080"/>
                  <a:tab algn="l" pos="9882360"/>
                  <a:tab algn="l" pos="10331280"/>
                  <a:tab algn="l" pos="10780560"/>
                  <a:tab algn="l" pos="10782360"/>
                </a:tabLst>
              </a:pPr>
              <a:r>
                <a:rPr b="0" lang="ja-JP" sz="4000" spc="-1" strike="noStrike">
                  <a:solidFill>
                    <a:srgbClr val="000000"/>
                  </a:solidFill>
                  <a:latin typeface="mikachan"/>
                  <a:ea typeface="mikachan"/>
                </a:rPr>
                <a:t>かりてください。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1114560" y="1887480"/>
            <a:ext cx="1371600" cy="493920"/>
          </a:xfrm>
          <a:custGeom>
            <a:avLst/>
            <a:gdLst/>
            <a:ahLst/>
            <a:rect l="l" t="t" r="r" b="b"/>
            <a:pathLst>
              <a:path w="3808" h="1373">
                <a:moveTo>
                  <a:pt x="0" y="0"/>
                </a:moveTo>
                <a:lnTo>
                  <a:pt x="3807" y="1372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dur="indefinite" fill="hold">
                      <p:stCondLst>
                        <p:cond delay="indefinite"/>
                      </p:stCondLst>
                      <p:childTnLst>
                        <p:par>
                          <p:cTn id="3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dur="indefinite" fill="hold">
                      <p:stCondLst>
                        <p:cond delay="indefinite"/>
                      </p:stCondLst>
                      <p:childTnLst>
                        <p:par>
                          <p:cTn id="3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dur="indefinite" fill="hold">
                      <p:stCondLst>
                        <p:cond delay="indefinite"/>
                      </p:stCondLst>
                      <p:childTnLst>
                        <p:par>
                          <p:cTn id="4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dur="indefinite" fill="hold">
                      <p:stCondLst>
                        <p:cond delay="indefinite"/>
                      </p:stCondLst>
                      <p:childTnLst>
                        <p:par>
                          <p:cTn id="4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579600" y="476280"/>
            <a:ext cx="91422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この でんしゃは しぶや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へ</a:t>
            </a: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 いきます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14360" y="1255680"/>
            <a:ext cx="9345600" cy="1349280"/>
          </a:xfrm>
          <a:prstGeom prst="roundRect">
            <a:avLst>
              <a:gd name="adj" fmla="val 1329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いえ、しぶや</a:t>
            </a:r>
            <a:r>
              <a:rPr b="0" lang="ja-JP" sz="4000" spc="-1" strike="noStrike" u="sng">
                <a:solidFill>
                  <a:srgbClr val="800000"/>
                </a:solidFill>
                <a:uFillTx/>
                <a:latin typeface="YOzFontNP04"/>
                <a:ea typeface="YOzFontNP04"/>
              </a:rPr>
              <a:t>へは</a:t>
            </a: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 いきません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しんじゅく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へ</a:t>
            </a: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 いきます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63680" y="3657600"/>
            <a:ext cx="898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ょう としょかん</a:t>
            </a:r>
            <a:r>
              <a:rPr b="0" lang="ja-JP" sz="3600" spc="-1" strike="noStrike">
                <a:solidFill>
                  <a:srgbClr val="800000"/>
                </a:solidFill>
                <a:latin typeface="YOzFontNP04"/>
                <a:ea typeface="YOzFontNP04"/>
              </a:rPr>
              <a:t>で </a:t>
            </a: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べんきょうします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95280" y="4668840"/>
            <a:ext cx="9059760" cy="2135160"/>
          </a:xfrm>
          <a:prstGeom prst="roundRect">
            <a:avLst>
              <a:gd name="adj" fmla="val 840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いえ、としょかん</a:t>
            </a:r>
            <a:r>
              <a:rPr b="0" lang="ja-JP" sz="4000" spc="-1" strike="noStrike" u="sng">
                <a:solidFill>
                  <a:srgbClr val="800000"/>
                </a:solidFill>
                <a:uFillTx/>
                <a:latin typeface="YOzFontNP04"/>
                <a:ea typeface="YOzFontNP04"/>
              </a:rPr>
              <a:t>で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べんきょうしません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うち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で</a:t>
            </a: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 べんきょうします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dur="indefinite" fill="hold">
                      <p:stCondLst>
                        <p:cond delay="indefinite"/>
                      </p:stCondLst>
                      <p:childTnLst>
                        <p:par>
                          <p:cTn id="4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dur="indefinite" fill="hold">
                      <p:stCondLst>
                        <p:cond delay="indefinite"/>
                      </p:stCondLst>
                      <p:childTnLst>
                        <p:par>
                          <p:cTn id="4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579600" y="476280"/>
            <a:ext cx="6372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さ ニュースを みます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14360" y="1255680"/>
            <a:ext cx="9345600" cy="1349280"/>
          </a:xfrm>
          <a:prstGeom prst="roundRect">
            <a:avLst>
              <a:gd name="adj" fmla="val 1329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いえ、あさ</a:t>
            </a:r>
            <a:r>
              <a:rPr b="0" lang="ja-JP" sz="4000" spc="-1" strike="noStrike" u="sng">
                <a:solidFill>
                  <a:srgbClr val="800000"/>
                </a:solidFill>
                <a:uFillTx/>
                <a:latin typeface="YOzFontNP04"/>
                <a:ea typeface="YOzFontNP04"/>
              </a:rPr>
              <a:t>は</a:t>
            </a: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 みません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よる みます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49120" y="3657600"/>
            <a:ext cx="807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てあらいは いっかい</a:t>
            </a:r>
            <a:r>
              <a:rPr b="0" lang="ja-JP" sz="3600" spc="-1" strike="noStrike">
                <a:solidFill>
                  <a:srgbClr val="800000"/>
                </a:solidFill>
                <a:latin typeface="YOzFontNP04"/>
                <a:ea typeface="YOzFontNP04"/>
              </a:rPr>
              <a:t>に </a:t>
            </a: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ります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95280" y="4668840"/>
            <a:ext cx="9059760" cy="2135160"/>
          </a:xfrm>
          <a:prstGeom prst="roundRect">
            <a:avLst>
              <a:gd name="adj" fmla="val 840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いえ、いっかい</a:t>
            </a:r>
            <a:r>
              <a:rPr b="0" lang="ja-JP" sz="4000" spc="-1" strike="noStrike" u="sng">
                <a:solidFill>
                  <a:srgbClr val="800000"/>
                </a:solidFill>
                <a:uFillTx/>
                <a:latin typeface="YOzFontNP04"/>
                <a:ea typeface="YOzFontNP04"/>
              </a:rPr>
              <a:t>に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りません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にかい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に</a:t>
            </a: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 あります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dur="indefinite" fill="hold">
                      <p:stCondLst>
                        <p:cond delay="indefinite"/>
                      </p:stCondLst>
                      <p:childTnLst>
                        <p:par>
                          <p:cTn id="4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dur="indefinite" fill="hold">
                      <p:stCondLst>
                        <p:cond delay="indefinite"/>
                      </p:stCondLst>
                      <p:childTnLst>
                        <p:par>
                          <p:cTn id="4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3166920" y="166680"/>
            <a:ext cx="4659480" cy="1106640"/>
          </a:xfrm>
          <a:prstGeom prst="roundRect">
            <a:avLst>
              <a:gd name="adj" fmla="val 14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r>
              <a:rPr b="0" lang="ja-JP" sz="6600" spc="-1" strike="noStrike">
                <a:solidFill>
                  <a:srgbClr val="000000"/>
                </a:solidFill>
                <a:latin typeface="YOzFontNP04"/>
                <a:ea typeface="YOzFontNP04"/>
              </a:rPr>
              <a:t>すきです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 flipV="1">
            <a:off x="3830400" y="2339640"/>
            <a:ext cx="701640" cy="99684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833640" y="1403280"/>
            <a:ext cx="1003320" cy="100332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464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5237280" y="2481120"/>
            <a:ext cx="617400" cy="84312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952880" y="1390680"/>
            <a:ext cx="939960" cy="93960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464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2886120" y="3298680"/>
            <a:ext cx="1873080" cy="57769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4665600" y="4292640"/>
            <a:ext cx="2065320" cy="527364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5037120" y="3368520"/>
            <a:ext cx="1076400" cy="119880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4"/>
          <a:stretch/>
        </p:blipFill>
        <p:spPr>
          <a:xfrm>
            <a:off x="6191280" y="4133880"/>
            <a:ext cx="485640" cy="15048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276120" y="3948120"/>
            <a:ext cx="27082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○ 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サッカ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149960" y="4251240"/>
            <a:ext cx="25401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× 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やきゅ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90520" y="5921280"/>
            <a:ext cx="9345600" cy="1349640"/>
          </a:xfrm>
          <a:prstGeom prst="roundRect">
            <a:avLst>
              <a:gd name="adj" fmla="val 1329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サッカー</a:t>
            </a:r>
            <a:r>
              <a:rPr b="0" lang="ja-JP" sz="4000" spc="-1" strike="noStrike" u="sng">
                <a:solidFill>
                  <a:srgbClr val="800000"/>
                </a:solidFill>
                <a:uFillTx/>
                <a:latin typeface="YOzFontNP04"/>
                <a:ea typeface="YOzFontNP04"/>
              </a:rPr>
              <a:t>は</a:t>
            </a: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 すきですが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やきゅう</a:t>
            </a:r>
            <a:r>
              <a:rPr b="0" lang="ja-JP" sz="4000" spc="-1" strike="noStrike" u="sng">
                <a:solidFill>
                  <a:srgbClr val="800000"/>
                </a:solidFill>
                <a:uFillTx/>
                <a:latin typeface="YOzFontNP04"/>
                <a:ea typeface="YOzFontNP04"/>
              </a:rPr>
              <a:t>は</a:t>
            </a: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 すきじゃありません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dur="indefinite" fill="hold">
                      <p:stCondLst>
                        <p:cond delay="indefinite"/>
                      </p:stCondLst>
                      <p:childTnLst>
                        <p:par>
                          <p:cTn id="4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0" y="203040"/>
            <a:ext cx="10078920" cy="713592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372960" y="3848040"/>
            <a:ext cx="4440240" cy="229068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312920" y="347760"/>
            <a:ext cx="3192480" cy="1106280"/>
          </a:xfrm>
          <a:prstGeom prst="roundRect">
            <a:avLst>
              <a:gd name="adj" fmla="val 14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084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Times New Roman"/>
              </a:rPr>
              <a:t>おきな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238800" y="469800"/>
            <a:ext cx="3840120" cy="113976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084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Times New Roman"/>
              </a:rPr>
              <a:t>とうきょう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878360" y="3797280"/>
            <a:ext cx="5032440" cy="26780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90520" y="5921280"/>
            <a:ext cx="9345600" cy="1349640"/>
          </a:xfrm>
          <a:prstGeom prst="roundRect">
            <a:avLst>
              <a:gd name="adj" fmla="val 1329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きなわ</a:t>
            </a:r>
            <a:r>
              <a:rPr b="0" lang="ja-JP" sz="4000" spc="-1" strike="noStrike" u="sng">
                <a:solidFill>
                  <a:srgbClr val="800000"/>
                </a:solidFill>
                <a:uFillTx/>
                <a:latin typeface="YOzFontNP04"/>
                <a:ea typeface="YOzFontNP04"/>
              </a:rPr>
              <a:t>では</a:t>
            </a: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 およげますが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とうきょう</a:t>
            </a:r>
            <a:r>
              <a:rPr b="0" lang="ja-JP" sz="4000" spc="-1" strike="noStrike" u="sng">
                <a:solidFill>
                  <a:srgbClr val="800000"/>
                </a:solidFill>
                <a:uFillTx/>
                <a:latin typeface="YOzFontNP04"/>
                <a:ea typeface="YOzFontNP04"/>
              </a:rPr>
              <a:t>では</a:t>
            </a: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 およげません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dur="indefinite" fill="hold">
                      <p:stCondLst>
                        <p:cond delay="indefinite"/>
                      </p:stCondLst>
                      <p:childTnLst>
                        <p:par>
                          <p:cTn id="4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511200" y="787320"/>
            <a:ext cx="3768840" cy="6253200"/>
          </a:xfrm>
          <a:custGeom>
            <a:avLst/>
            <a:gdLst>
              <a:gd name="textAreaLeft" fmla="*/ 360 w 3768840"/>
              <a:gd name="textAreaRight" fmla="*/ 3768480 w 3768840"/>
              <a:gd name="textAreaTop" fmla="*/ 360 h 6253200"/>
              <a:gd name="textAreaBottom" fmla="*/ 6252840 h 6253200"/>
            </a:gdLst>
            <a:ahLst/>
            <a:rect l="textAreaLeft" t="textAreaTop" r="textAreaRight" b="textAreaBottom"/>
            <a:pathLst>
              <a:path w="21600" h="35837">
                <a:moveTo>
                  <a:pt x="9" y="0"/>
                </a:moveTo>
                <a:arcTo wR="9" hR="9" stAng="16200000" swAng="-5400000"/>
                <a:lnTo>
                  <a:pt x="0" y="35828"/>
                </a:lnTo>
                <a:arcTo wR="9" hR="9" stAng="10800000" swAng="-5400000"/>
                <a:lnTo>
                  <a:pt x="21591" y="35837"/>
                </a:lnTo>
                <a:arcTo wR="9" hR="9" stAng="5400000" swAng="-5400000"/>
                <a:lnTo>
                  <a:pt x="21600" y="9"/>
                </a:lnTo>
                <a:arcTo wR="9" hR="9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993600" y="1076400"/>
            <a:ext cx="2608560" cy="58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を → 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が → 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へ → へ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で → で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に → に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⌀ → 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662040" y="399960"/>
            <a:ext cx="6907320" cy="644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912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）よく テレビを みます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ニュース→○ ドラマ→</a:t>
            </a:r>
            <a:r>
              <a:rPr b="0" lang="fr-FR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）おさけが すきです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ワイン→○ ビール→</a:t>
            </a:r>
            <a:r>
              <a:rPr b="0" lang="fr-FR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3</a:t>
            </a: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）やまや うみへ よく いきます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うみ→○ やま→</a:t>
            </a:r>
            <a:r>
              <a:rPr b="0" lang="fr-FR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4</a:t>
            </a: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）ほんを よく よみます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としょかん→○ うち→</a:t>
            </a:r>
            <a:r>
              <a:rPr b="0" lang="fr-FR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5</a:t>
            </a: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）えいがへ よく いきます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まえ→○ いま→</a:t>
            </a:r>
            <a:r>
              <a:rPr b="0" lang="fr-FR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×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511200" y="787320"/>
            <a:ext cx="3768840" cy="6253200"/>
          </a:xfrm>
          <a:custGeom>
            <a:avLst/>
            <a:gdLst>
              <a:gd name="textAreaLeft" fmla="*/ 360 w 3768840"/>
              <a:gd name="textAreaRight" fmla="*/ 3768480 w 3768840"/>
              <a:gd name="textAreaTop" fmla="*/ 360 h 6253200"/>
              <a:gd name="textAreaBottom" fmla="*/ 6252840 h 6253200"/>
            </a:gdLst>
            <a:ahLst/>
            <a:rect l="textAreaLeft" t="textAreaTop" r="textAreaRight" b="textAreaBottom"/>
            <a:pathLst>
              <a:path w="21600" h="35837">
                <a:moveTo>
                  <a:pt x="9" y="0"/>
                </a:moveTo>
                <a:arcTo wR="9" hR="9" stAng="16200000" swAng="-5400000"/>
                <a:lnTo>
                  <a:pt x="0" y="35828"/>
                </a:lnTo>
                <a:arcTo wR="9" hR="9" stAng="10800000" swAng="-5400000"/>
                <a:lnTo>
                  <a:pt x="21591" y="35837"/>
                </a:lnTo>
                <a:arcTo wR="9" hR="9" stAng="5400000" swAng="-5400000"/>
                <a:lnTo>
                  <a:pt x="21600" y="9"/>
                </a:lnTo>
                <a:arcTo wR="9" hR="9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993600" y="1076400"/>
            <a:ext cx="2581560" cy="58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を → 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が → 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へ → へ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で → で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に → に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⌀ → 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0360" y="1763640"/>
            <a:ext cx="4596120" cy="1428840"/>
          </a:xfrm>
          <a:prstGeom prst="roundRect">
            <a:avLst>
              <a:gd name="adj" fmla="val 12556"/>
            </a:avLst>
          </a:prstGeom>
          <a:solidFill>
            <a:srgbClr val="ffffcc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2920" y="2206800"/>
            <a:ext cx="3912840" cy="609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きま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dur="indefinite" fill="hold">
                      <p:stCondLst>
                        <p:cond delay="indefinite"/>
                      </p:stCondLst>
                      <p:childTnLst>
                        <p:par>
                          <p:cTn id="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662040" y="841320"/>
            <a:ext cx="7489800" cy="56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6912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）よく テレビで ニュースを みま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→</a:t>
            </a: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ドラ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）ワインが すきで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→</a:t>
            </a: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ビー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3</a:t>
            </a: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）やまへ よく いきま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→</a:t>
            </a: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う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4</a:t>
            </a: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）としょかんで よく ほんを よみま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→</a:t>
            </a: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う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5</a:t>
            </a: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）まいばん、しんぶんを よみま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→</a:t>
            </a: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ときどき、あ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9504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mikachan"/>
                <a:ea typeface="mikachan"/>
              </a:rPr>
              <a:t>ここはどこでしょう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ーがみえま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ーがきこえま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をつかってレポートをしてくださ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83280" y="1763640"/>
            <a:ext cx="4595760" cy="1428840"/>
          </a:xfrm>
          <a:prstGeom prst="roundRect">
            <a:avLst>
              <a:gd name="adj" fmla="val 12556"/>
            </a:avLst>
          </a:prstGeom>
          <a:solidFill>
            <a:srgbClr val="ffffcc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92880" y="2033640"/>
            <a:ext cx="37321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368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きませ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19120" y="334800"/>
            <a:ext cx="725976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ギター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OzFontNP04"/>
                <a:ea typeface="YOzFontNP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きます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488280" y="2003400"/>
            <a:ext cx="438120" cy="676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054760" y="2638440"/>
            <a:ext cx="581040" cy="676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7607160" y="2757600"/>
            <a:ext cx="581040" cy="676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2743200" y="2413080"/>
            <a:ext cx="438120" cy="676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3033720" y="1935000"/>
            <a:ext cx="3705120" cy="562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dur="indefinite" fill="hold">
                      <p:stCondLst>
                        <p:cond delay="indefinite"/>
                      </p:stCondLst>
                      <p:childTnLst>
                        <p:par>
                          <p:cTn id="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19120" y="334800"/>
            <a:ext cx="725976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スキー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OzFontNP04"/>
                <a:ea typeface="YOzFontNP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きます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873080" y="1922400"/>
            <a:ext cx="4335480" cy="56372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891040" y="3316320"/>
            <a:ext cx="2857680" cy="2046240"/>
          </a:xfrm>
          <a:custGeom>
            <a:avLst/>
            <a:gdLst/>
            <a:ahLst/>
            <a:rect l="l" t="t" r="r" b="b"/>
            <a:pathLst>
              <a:path w="7938" h="5685">
                <a:moveTo>
                  <a:pt x="0" y="5684"/>
                </a:moveTo>
                <a:cubicBezTo>
                  <a:pt x="415" y="4967"/>
                  <a:pt x="954" y="4326"/>
                  <a:pt x="1568" y="3773"/>
                </a:cubicBezTo>
                <a:cubicBezTo>
                  <a:pt x="2036" y="3351"/>
                  <a:pt x="2653" y="3309"/>
                  <a:pt x="3234" y="3234"/>
                </a:cubicBezTo>
                <a:cubicBezTo>
                  <a:pt x="3823" y="3158"/>
                  <a:pt x="4315" y="2880"/>
                  <a:pt x="4802" y="2597"/>
                </a:cubicBezTo>
                <a:cubicBezTo>
                  <a:pt x="5565" y="2153"/>
                  <a:pt x="6064" y="1317"/>
                  <a:pt x="6908" y="980"/>
                </a:cubicBezTo>
                <a:lnTo>
                  <a:pt x="7496" y="490"/>
                </a:lnTo>
                <a:lnTo>
                  <a:pt x="7937" y="0"/>
                </a:lnTo>
                <a:lnTo>
                  <a:pt x="7888" y="49"/>
                </a:lnTo>
              </a:path>
            </a:pathLst>
          </a:custGeom>
          <a:noFill/>
          <a:ln w="3600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91280" y="3862440"/>
            <a:ext cx="2857320" cy="2046240"/>
          </a:xfrm>
          <a:custGeom>
            <a:avLst/>
            <a:gdLst/>
            <a:ahLst/>
            <a:rect l="l" t="t" r="r" b="b"/>
            <a:pathLst>
              <a:path w="7938" h="5685">
                <a:moveTo>
                  <a:pt x="0" y="5684"/>
                </a:moveTo>
                <a:cubicBezTo>
                  <a:pt x="415" y="4967"/>
                  <a:pt x="954" y="4326"/>
                  <a:pt x="1568" y="3773"/>
                </a:cubicBezTo>
                <a:cubicBezTo>
                  <a:pt x="2036" y="3351"/>
                  <a:pt x="2653" y="3309"/>
                  <a:pt x="3234" y="3234"/>
                </a:cubicBezTo>
                <a:cubicBezTo>
                  <a:pt x="3823" y="3158"/>
                  <a:pt x="4315" y="2880"/>
                  <a:pt x="4802" y="2597"/>
                </a:cubicBezTo>
                <a:cubicBezTo>
                  <a:pt x="5565" y="2153"/>
                  <a:pt x="6064" y="1317"/>
                  <a:pt x="6908" y="980"/>
                </a:cubicBezTo>
                <a:lnTo>
                  <a:pt x="7496" y="490"/>
                </a:lnTo>
                <a:lnTo>
                  <a:pt x="7937" y="0"/>
                </a:lnTo>
                <a:lnTo>
                  <a:pt x="7888" y="49"/>
                </a:lnTo>
              </a:path>
            </a:pathLst>
          </a:custGeom>
          <a:noFill/>
          <a:ln w="3600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33720" y="1935000"/>
            <a:ext cx="3705120" cy="56246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52320" y="5281560"/>
            <a:ext cx="908388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ギター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ひく</a:t>
            </a:r>
            <a:r>
              <a:rPr b="0" lang="ja-JP" sz="4800" spc="-1" strike="noStrike">
                <a:solidFill>
                  <a:srgbClr val="ff0000"/>
                </a:solidFill>
                <a:latin typeface="YOzFontNP04"/>
                <a:ea typeface="YOzFontNP04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きます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488280" y="2003400"/>
            <a:ext cx="438120" cy="6764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5054760" y="2638440"/>
            <a:ext cx="581040" cy="6764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607160" y="2757600"/>
            <a:ext cx="581040" cy="676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2743200" y="2414520"/>
            <a:ext cx="438120" cy="6764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52320" y="5281560"/>
            <a:ext cx="908388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ギター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が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ひけ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ます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3800" y="552600"/>
            <a:ext cx="25923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448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ギターを ひきま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dur="indefinite" fill="hold">
                      <p:stCondLst>
                        <p:cond delay="indefinite"/>
                      </p:stCondLst>
                      <p:childTnLst>
                        <p:par>
                          <p:cTn id="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dur="indefinite" fill="hold">
                      <p:stCondLst>
                        <p:cond delay="indefinite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23:33:36Z</dcterms:created>
  <dc:creator/>
  <dc:description/>
  <dc:language>en-US</dc:language>
  <cp:lastModifiedBy/>
  <dcterms:modified xsi:type="dcterms:W3CDTF">2016-05-24T19:27:45Z</dcterms:modified>
  <cp:revision>5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nfo 1">
    <vt:lpwstr/>
  </property>
  <property fmtid="{D5CDD505-2E9C-101B-9397-08002B2CF9AE}" pid="3" name="Info 2">
    <vt:lpwstr/>
  </property>
  <property fmtid="{D5CDD505-2E9C-101B-9397-08002B2CF9AE}" pid="4" name="Info 3">
    <vt:lpwstr/>
  </property>
  <property fmtid="{D5CDD505-2E9C-101B-9397-08002B2CF9AE}" pid="5" name="Info 4">
    <vt:lpwstr/>
  </property>
</Properties>
</file>